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8E2E-CF18-4F2F-9AD9-58A6F42B8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64(ish), Danish inventor Karl Krøyer came up with the idea to raise a sunken ship using styrofoam balls.  He was denied a patent because the idea (w/ping pong balls) had appeared in Donald Duck in 1949 (http://stp.ling.uu.se/~starback/dcml/story/W+WDC+104-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set: Started selling physical, moved into electronic 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set: Started business as a new physical mover of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set: the lucky one, and move money - no investment in merchandise or warehous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rst item in each bullet are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tures on a CD, buy right to use them in your work (stock pho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ships - non-adult, to buy in a market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s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 site ads (us) $14,000/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 a keyword: sex 330,300 impressions/day $4954.50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*** 23,500 impressions, $352.50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cos: Nude Pictures of Pamela Anderson and Mon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yeu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ing lists of searched words to ad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ould PlasticFantastic adverti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amera si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vertise cameras (not much traffic, thou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arch eng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vertise cameras (lots of potential traffic, easily dir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click still paid with sliding scale based on conver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conversion – pay more than one month’s income for sign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up vs. retained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referral: what does it cost to get a qualified person?  Financial compani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out of more than signup as commi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nce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your privacy wor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gerpr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her’s maide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folks are willing to sell their own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ant Eagle advantage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azon wish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3A6-72AD-4D10-A734-A7A1ABFC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59C-D2F4-4C7B-B07D-8D74F82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185-BBAA-40CD-A87C-E76B01F0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9D1-6EC7-46F5-ABC2-0F3B7CDA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47C-0ED0-4D4F-9901-5DC45398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2A0-1B47-4B3D-884F-0B120F6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7B0-794B-4B57-B165-89001290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E82-13B6-4535-993E-8DA178B9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CC8-BE51-4BEF-B080-4AB260A2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53D-49BE-4EB0-9A66-98C4F611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24D-1202-483B-9937-5F645D15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4A9-B26F-4EF5-B7DC-F01DB05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BA96-641F-482C-A085-20EA0746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ay, what is for s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, parts, cars, music, antiques, junk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, memberships, searches, greeting cards, mone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publis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921120" cy="585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nes &amp; Noble, L.L.Bean, LandsEnd, Clinique, Camera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s.com, buy.com, pets.com, groceries.com, wine.com, spark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.com, PayPa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a program (or picture, or lice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repeatedly (monthly/annu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a membership in a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ly adult-site memberships, other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 sporadically (access/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information per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money (PayPal, IB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one can adverti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ing ads is main motiv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fre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ads are banne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payment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i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ing for 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i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est to advertiser (bandwidth costs), but advertiser must trust publ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est to both (both can track traffic, publisher can pull unsuccessful ads), but susceptible to abuse by both sides (click-bots and trimming by “uniqu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est to advertiser (pay only for results), but publisher must trust adverti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istinct Marketpl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–15% click-throug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–1% convers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traffic from little advert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strea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–1% click-through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–10% convers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traffic through big advert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ment Sc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I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way on big mainstream advert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adult sites use it any more – lots of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ainstream sites 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tream and ad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-Conversion Pa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pay-out schemes (depending on business being adverti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referral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signup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c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ticip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t g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custome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ad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ntary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untary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anony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Brother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tching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24:40Z</dcterms:created>
  <dc:creator>Kristian Secor</dc:creator>
  <dc:description/>
  <dc:language>en-US</dc:language>
  <cp:lastModifiedBy>Kristian Secor</cp:lastModifiedBy>
  <dcterms:modified xsi:type="dcterms:W3CDTF">2005-10-05T19:35:31Z</dcterms:modified>
  <cp:revision>3</cp:revision>
  <dc:subject/>
  <dc:title>Okay, what is for sale?</dc:title>
</cp:coreProperties>
</file>