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5522-2742-46DB-82EC-A4ED3A6E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CF4-8EEC-4526-9C4E-C5C58D4D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B9DF-9E12-4514-A261-EF500C1A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8AF-C49D-4D4C-A3CC-819B3A0F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F932-12C6-4C7B-A94C-ED59E607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33C8-F745-4EAA-83BD-3048B314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95E5-B34B-47CF-9F85-1BF69401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803B-C27A-469B-A406-12F0250B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6006-3D02-4D0B-9E17-5F2C6C3F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6D3B-62F1-4C16-8078-9128E6FD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9B31-27DA-436B-9FAC-0E10329F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499D-FC6F-4E20-8622-21FC28B6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BC44-8491-4936-9FA0-907B9571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92F2-E34B-4F08-BF93-C311F9F6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875E-910D-4097-A3C6-CE594B06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C51F-20D5-49C2-B7D6-0E69C415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D85B-79F0-42E1-80BF-C46A625C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B74-2EE0-4D1C-B9DE-26698DB7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B893-31FE-44F1-A78B-C8FB1CDA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4684-AFD7-4258-B1E2-AD8FD93E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E1A-1226-43DE-BC1C-436FDF8F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684-FC01-45AD-9BD3-865D46D7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3ABA-038B-49D0-8253-B9D6ACAA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762-046A-4953-8C1A-3042AF1B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2486-AF55-467E-9E78-8633540D3B9E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4317-04AD-4C1A-95BE-FDEECDFCD9A6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m214.com/mm3303materials/mm3303week1/1syntax/body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M3303 Week 1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s course will be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1.Javascript in the first 5-7 weeks (hitting all the course competencies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2.Server sided programming in weeks 7-11 (Depending on our progress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3.Enough to prepare you for Advanced Web Programming and get you freelancing immediatel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tatemen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grams ‘flow’ from statement to statemen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mple stat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ssignment (setting the value of a variable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alls to procedure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ertain statements are compound statements, with the statements ‘inside’ operating depending on certain ru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Loops, conditionals (If, switc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nctuation (brackets, semicolons) can be tricky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e can write to the pag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earn Mor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r we can write html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ello!!!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Welcome to my world!!!&lt;br&gt;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njoy your stay...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3 types of boxes to get data from user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lert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nfirm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mpt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lert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var msgText = "You clicked the link."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// --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a href="javascript:alert(msgText);"&gt;Click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this link&lt;/a&gt; to see an alert box.&lt;/p&gt;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nfirm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function confirmChoice()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msgQuestion = "Do you want to return to the class page now?"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userResponse = confirm(msgQuestion)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if (userResponse == 1)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location = "http://mm214.com/mm3303.html"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return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// --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ead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a href="javascript:confirmChoice();"&gt;click this link&lt;/a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to see a confirm box that takes you to another page if you choose "OK."&lt;/p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a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rompt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requestMsg = "Type your name: "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unction promptSequence(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rInput1 = prompt(requestMsg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questMsg = "Type the name of your favorite food: "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rInput2 = prompt(requestMsg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userInput1 + " loves " + userInput2 + "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a href="javascript:promptSequence();"&gt;Try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now!&lt;/a&gt;&lt;/p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vent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e code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&lt;a href="http://www.mm214.com" onclick="alert('I said don\'t do that!!!');return false;"&gt; Don't click here&lt;/a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onclick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a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is the event that occurs when the user clicks the link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aler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a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func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takes a single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argument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ich is a string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ven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vents are triggered by user actions or the browser itself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on User action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ommon events include: onMouseOver, onMouseOut, onClick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hese 3 events are mostly commonly used with anchor tag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thers include onFocus, onBlu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cument event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nLoad and onUnLoad are examples of events not triggered by the use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ler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aler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used to grab the attention of the us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tax: alert(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Ex: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lert(“You have not entered a valid name.”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Ex.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lert(“Hello “ + name + “!”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look of the alert box is defined by the browser and platfo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ets the users attention but abusing it can easily be abus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can javascript do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mpletely front-ended…consider it a browser scripter…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t’s an interpreted language which is why we want to put as much as we can in the head tag…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eclare Variables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r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i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t necessary but a good practi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ssign variables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i = 7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name = “Eric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 assign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li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x = 7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y = x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x = y + 10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y = y + 4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first = “jon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last = “doe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name = first + “ “ + las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ot Vali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7 = x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would this equal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title&gt;My Page&lt;/title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2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5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sult=myvalue+MyVal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result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nd this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title&gt;My Page&lt;/title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2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5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sult=myvalue+myval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result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bjec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vascript is an object oriented langu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ough because it is so ‘loose’ with its typing many don’t think of it as on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bjects are variables with properties and field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properties may be other variables or func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“.” operator is used to access the methods and properties of an objec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g:  jared.age = 22;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bjec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bjects are predefined functions for math, text variables, browser controlling, etc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 a matter of fact each and every item placed on a webpage is an object that can be changed, read, or written to by javascrip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is is where the real fun starts with javascript: When you start controlling the single objects (form fields, buttons, images, menus, etc. etc.) on the pag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at is where you really start taking your pages beyond the aver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new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bjects are declared using new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jared = new Object(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perties are not declared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r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.  You just assign them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- hooter.name = “Hooter Hicks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hooter.age = “22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cript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code: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ar now = new Date(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ar hour = now.getHours(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f (hour &gt; 5 &amp;&amp; hour &lt;= 11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Morning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 else if (hour &gt; 11 &amp;&amp; hour &lt;= 17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Afternoon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Evening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//  --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cript Example part 2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&lt;script&gt; is the tag used to indicate that you are writing javascript and not html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lse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are used to make conditional statements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ocument.write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tells javascript to insert html into the pag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The &lt;script&gt; tag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main property of &lt;script&gt; is langu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g.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&lt;script language =“javascript”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f you don’t specify a language the default is javascript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You can also specify a version numb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&lt;script language =“javascript”&gt;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lways close the &lt;script&gt; tag, or your code will not work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close your javascript code within a html comment block &lt;!-- --&gt;, to make the page comaptible with non-javascript brows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do I use javascript for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rowser Detecti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etecting the browser used by a visitor at your page. Depending on the browser, another page specifically designed for that browser can then be loaded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mparis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re are several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operators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used for making comparisons between variab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main arithmetic comparitors a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= equa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 less th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 less than or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 greater th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= greater than or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!= not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n making comparison you can also use logic func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amp;&amp; for and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|| for or (that’s two ‘pipes”; shift backslas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! For no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g: if (age &gt; 18 &amp;&amp; age &lt; 65) {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ce  = “$10”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} else {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ce = “$6”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ore logic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f  (customer.age &lt;= 18 &amp;&amp;  movie.rating == “R” &amp;&amp; !(customer.parentPresent())) {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ocument.write(“No admittance”)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s something that holds a value, a value being a string of characters, a number, a set of things (such as strings or numbers)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2.50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Art Institute"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"bird.gif"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title&gt; JavaScript 1 &lt;/title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"&lt;h1&gt;This is it. &lt;/h1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Date()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This is the rest of the p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odified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title&gt; JavaScript 1 &lt;/title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var s = "Hello "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s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Date()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"&lt;br&gt;&lt;h1&gt;" + s + "&lt;/h1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This is the rest of the p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body&gt;  &lt;/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Recap of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vaScript code in the head section (NOT within a function definition--example of this later in notes).  This gets </a:t>
            </a:r>
            <a:r>
              <a:rPr b="0" i="1" lang="en-US" sz="2800" spc="-1" strike="noStrike">
                <a:solidFill>
                  <a:srgbClr val="006699"/>
                </a:solidFill>
                <a:latin typeface="Arial"/>
              </a:rPr>
              <a:t>executed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(done, performed) before anything els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document.write(</a:t>
            </a:r>
            <a:r>
              <a:rPr b="0" i="1" lang="en-US" sz="2800" spc="-1" strike="noStrike">
                <a:solidFill>
                  <a:srgbClr val="006699"/>
                </a:solidFill>
                <a:latin typeface="Courier New"/>
              </a:rPr>
              <a:t>something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puts the something at the start of the html page. Try other possibilit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document.write("&lt;font color=red&gt; hello &lt;/font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sing built-in functions, variabl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 &lt;head&gt; &lt;title&gt; JavaScript 1 &lt;/title&gt;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rawDate = Date(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mon = rawDate.substr(4,3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The month is 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mon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//--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 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is is the rest of the pag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 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me for in class assignment #1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276360" y="2209680"/>
            <a:ext cx="144756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1981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Variable set to what Date() returns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4114440" y="3124080"/>
            <a:ext cx="1600200" cy="76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913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Extract the month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t event handler to set status b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 &lt;head&gt; &lt;title&gt; JavaScript 1 &lt;/title&gt; 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is is the rest of the pag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a href="http://mm214.com/mm3303materials/"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nMouseOver="status= 'This is where our stuff will be'; return true;"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lass Materials &lt;/a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5409720" y="3580920"/>
            <a:ext cx="228600" cy="129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50292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te single quotes inside double quotes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314840" y="2819520"/>
            <a:ext cx="1522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0" y="1981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his lets the hyperlink take place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1447920" y="3504960"/>
            <a:ext cx="761760" cy="2057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5638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his is an event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f tes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f statement allows you/the code to check a condition and if the condition is true, do something and if the condition is not true, do something else (or do nothing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f (condition)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f (condition)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lse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toring information on the visitor's computer, then retrieving this information automatically next time the user visits your page. This technique is called "cookies"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f state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s used to execute code only is some condition is tr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f (age &gt;= 18) {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dult = tr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else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d with if to execute a second statement if the condition is fals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f (sex == “male”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itle = “Mr”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itle = “Ms”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se if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lse if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used for linking several if statement together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f (phd == true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Dr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if (sex == “male”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Mr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if (sex == “female”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Ms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????”;  /* Not male or female! */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Form verification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how in two part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verify function written in the head sec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form itself, with the call to verify part of the onSubmit event handl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3400" y="380880"/>
            <a:ext cx="8258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head&gt;&lt;title&gt;Form example &lt;/title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function verify(f)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if (f.lname.value == null || f.address.value == null)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   alert("Form needs a last name and an address")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if (f.lname.value == "" || f.address.value == "")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   alert("Form needs a last name and an address")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/script&gt; &lt;/head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48560" y="530280"/>
            <a:ext cx="7262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h1&gt; Address Information &lt;/h1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form method=post enctype="text/plain" action="mailto:ks422@fac.aii.edu"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onSubmit="return verify(this);"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First Name: &lt;input type="text" name="fname"&gt;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Last Name: &lt;input type="text" name="lname"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reet Address: &lt;input type="text" name="address" size=30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Town/City: &lt;input type="text" name="city"&gt;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ate: &lt;select name="state" size=1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NY" selected&gt; New York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NJ"&gt; New Jersey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CT"&gt; Connecticu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PA"&gt; Pennsylvania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/select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atus: &lt;input type="radio" name="status" value="R"&gt; Returning clien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input type="radio" name="status" value="N"&gt; New clien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hr&gt; Thank you &lt;p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input type="submit" value="Send information"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/form&gt; &lt;/body&gt; &lt;/html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Learning to fish…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Many on-line sites with examples of JavaScrip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You do need to review what you find (you don't want to eat anything you hook….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 an example that displays: "Class is nearly over" when the time is past 9p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Browser Control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pening pages in customized windows, where you specify if the browser's buttons, menu line, status line or whatever should be present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nd my fav…form validat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Validating inputs to fields before submitting a form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n example would be validating the entered email address to see if it has an @ in it, since if not, it's not a valid address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ere to place it…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type="text/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  <a:hlinkClick r:id="rId1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r……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type="text/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ements of JavaScrip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ypical programming element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riables, operators, expressions, statements, definition of funct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nnection to Web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ilt-in functions (e.g., Date()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ocument Object Model = names of ‘things’, properties, methods (e.g., document.writ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vents (e.g., onSubmit, onMouseOver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9T13:50:02Z</dcterms:created>
  <dc:creator>Kristian Secor</dc:creator>
  <dc:description/>
  <dc:language>en-US</dc:language>
  <cp:lastModifiedBy>Kristian Secor</cp:lastModifiedBy>
  <dcterms:modified xsi:type="dcterms:W3CDTF">2006-07-10T19:13:36Z</dcterms:modified>
  <cp:revision>16</cp:revision>
  <dc:subject/>
  <dc:title>MM3303 Week 1</dc:title>
</cp:coreProperties>
</file>