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E2349-E2C4-4E43-93CF-D3B0776D3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1AF87-B5E8-48BB-A4BD-A47211EB7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25EC-7CC2-475D-9B4F-126F58F27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F5E43-51B3-4538-B5E6-E8A83C063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2910-AEEF-4782-BBA3-42E198BC3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B9B7-195E-42F1-819D-B503C5727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AF24-0BAA-424D-9D28-9F74D8C9C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F905-DE84-4300-A635-B9A6A3566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FCE5-BBB8-4427-9B87-DCCD8B6E5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F2A5-AB6E-40AE-A1DE-345441FD5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FBBFB-B510-4D31-9AA9-9927EC8E4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B0FA-3B27-49E3-B1DB-534491B7B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531EB-9C58-425B-AF90-0CD932EC6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7589-7ADE-4B50-8945-5882DD244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CCC1-3288-42CD-ABB3-D64D3AA6C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4447-9D7B-43BE-8588-09854C954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BD50D-62E3-4CD9-856B-A335335B6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00819-ABC8-41DD-B39A-8937A811E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8CE77-6C85-4A97-9B3E-2F5CC3700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A58B-43A7-4A12-B993-62C5893C2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10849-2E24-45D0-B948-7A8B03DAE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37417-472F-42CC-A4CA-B9181644A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7B6A8-F85A-4DCE-A9EC-6C333BA5B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0873C-E0C6-444A-8080-0615C84BE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FC591-62E3-4C5A-9F7B-B53E89967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9255E-25FA-488E-956B-506D781BF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3D75AA-C3BE-429E-B9E3-6CC9052E39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9312D-88A8-4A15-BD1B-80C435C12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8C359-6980-4408-B2B5-F999AB9EC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8E3C4-4D3F-4205-95B1-C7CDE7311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EF75B-E39B-46B2-B7D1-3BF21A637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87E2E-1213-4E6D-9816-37D751EBB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7B417-EF07-4E95-B8CB-DE96B8546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CE50F-3468-4E5C-A78D-BE8718706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73224-76B3-460C-9C31-D2CA67DCD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1C5EC-CB9B-4C8A-8577-47063F16A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E5A51-6475-466D-B863-E4C95062A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7FDEB-7B9D-489F-A4D3-295E7BC23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172611-97C7-41C0-80B8-2A3C047D7D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EB5156-282D-498F-901B-B367B17BBD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731D21-0D51-4E8C-A6A8-32583FFDFF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BF3C4C-5B25-4362-A42F-C4290FEA5C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AA2EB2-CA97-46E3-BEDD-97377B0CC5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626DD8-5DDD-400A-8B97-1BFF245920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3EC67-B9ED-4395-92CA-FCCE5AE2E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037524-2D15-4EB9-94E3-4114E4E0B0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2E205-0D82-4E47-84B9-C68A283454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6F0A5B-F82B-4BC1-A618-276987C8F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2FBD12-E860-4979-AA20-E818D1D76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0CCEBE-E087-456D-9B9D-6BF1EE517A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73987A-08FA-44CD-BCAD-F3D7DA116D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15D78E-731E-4E7F-8D50-5F7DE7BD70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85C2C1-F06D-41A5-B728-7B5ED7AED3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A95E1F-30DE-4E0E-95B4-802F479D78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F33F85-F7AB-4B09-9183-EB3F9B562A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E6AA1-7524-4F37-A8F7-438C843BA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2B8DD2-211A-42C5-B175-5ED1F515D4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DE4B0C-9813-4D60-BB1F-0A6D75AFC7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3C48E2-C3AD-492B-A883-D1B95C6451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4CA7AB-010A-47B6-B1AC-ABD5B8B453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D9F1DA-36E2-434A-9DC4-9625714EB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A461EF-AEE0-454F-AA57-EC9ACF45B5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FFBAEF-B0D0-49C8-828F-F874D2FB11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9FA318-FE63-44BE-BC6D-D046704422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714847-5DAF-421F-9DE6-91472B882F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EB1666-C7CA-4828-BAAB-936A78E9AD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8C3B3-9483-4F33-B341-E3D4AB46D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4BC389-BFD3-48F8-BE85-76DCBD1AAC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A323EC-F0AD-4104-AB77-520CD32F10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04C4F6-8E53-4162-BD3C-4A3C4D6113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425E2B-12F0-499B-A709-C08A7E045E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E8C3FD-1DD4-461D-A292-9BAD68B27A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0993A2-23F4-41EC-9E77-6ACE726D04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20F07E-F984-4FB9-B039-387B7869D9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8F1DAA-D6BC-43B7-AE28-DE6B9148DC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14C426-E3AC-4FB5-8E9C-27A31764AE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90653C-93E0-4A12-981D-64F59A7F7C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CF13D-364E-4B6F-8E6C-46B70B4AC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CDDA61-E8E7-4C4A-AC03-FEB68745E5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46A6E-6726-4634-9D74-A60203EBF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82FD6-98FD-479F-9DA8-72CD2E48D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A225A-5153-429A-9442-A1D7870B4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7089-ABD5-452E-96BB-C268A210A44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B284-A91E-45C3-86CD-571F828DE0E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AF9C-380D-4E1E-960B-473EDC77F34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CB09-0DCE-4C9F-A65B-F615DE79F46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8E3B-C342-4070-8C7F-2A9AAFEEFAA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Part 1</a:t>
            </a:r>
            <a:endParaRPr b="0" lang="en-US" sz="2600" spc="-1" strike="noStrike">
              <a:solidFill>
                <a:srgbClr val="000000"/>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Introduction to</a:t>
            </a:r>
            <a:br>
              <a:rPr sz="4000"/>
            </a:br>
            <a:r>
              <a:rPr b="0" lang="en-US" sz="4000" spc="-1" strike="noStrike">
                <a:solidFill>
                  <a:srgbClr val="ffffff"/>
                </a:solidFill>
                <a:latin typeface="Franklin Gothic Book"/>
              </a:rPr>
              <a:t>Web Development</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main Name Registrar</a:t>
            </a:r>
            <a:endParaRPr b="0" lang="en-US"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gister.co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odaddy.co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stmonster.co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tworksolutions.com</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Who Is</a:t>
            </a:r>
            <a:endParaRPr b="0" lang="en-US" sz="32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st domain name registrars have a "who is" lookup.</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provides general information about the domain name, the registrar and the DNS used for the domai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ry "ergoware.co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Using "nslookup"</a:t>
            </a:r>
            <a:endParaRPr b="0" lang="en-US"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pen a command terminal</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nslookup" and press &lt;return&gt;</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a domain name to lookup.  (e.g. ergoware.com)</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w enter "set type=all" and press &lt;return&gt;</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the domain name again</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server" and a name server.  (e.g. "server ns1.h-99.net")</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the domain name again</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exit" to quit and "exit" again to close the command window.</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P Address</a:t>
            </a:r>
            <a:endParaRPr b="0" lang="en-US"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You can access the web host directly using the IP Address.  (e.g.  "http://207.99.28.157")</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otocol</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fontScale="92000"/>
          </a:bodyPr>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ttp:   (normally uses port 80)</a:t>
            </a:r>
            <a:br>
              <a:rPr sz="2400"/>
            </a:br>
            <a:r>
              <a:rPr b="0" lang="en-US" sz="2400" spc="-1" strike="noStrike">
                <a:solidFill>
                  <a:srgbClr val="000000"/>
                </a:solidFill>
                <a:latin typeface="Perpetua"/>
              </a:rPr>
              <a:t>This protocol is used to find web pages.  Data is transmitted openly.  It is possible for a third party to view the communication between your browser and the web server.</a:t>
            </a:r>
            <a:endParaRPr b="0" lang="en-US" sz="24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ttps: (normally uses port 443)</a:t>
            </a:r>
            <a:br>
              <a:rPr sz="2400"/>
            </a:br>
            <a:r>
              <a:rPr b="0" lang="en-US" sz="2400" spc="-1" strike="noStrike">
                <a:solidFill>
                  <a:srgbClr val="000000"/>
                </a:solidFill>
                <a:latin typeface="Perpetua"/>
              </a:rPr>
              <a:t>This protocol encrypts the communication between your browser and the web server.  </a:t>
            </a:r>
            <a:endParaRPr b="0" lang="en-US" sz="24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tp:  (normally uses port 21)</a:t>
            </a:r>
            <a:br>
              <a:rPr sz="2400"/>
            </a:br>
            <a:r>
              <a:rPr b="0" lang="en-US" sz="2400" spc="-1" strike="noStrike">
                <a:solidFill>
                  <a:srgbClr val="000000"/>
                </a:solidFill>
                <a:latin typeface="Perpetua"/>
              </a:rPr>
              <a:t>This is a file transfer protocol.  To communicate, the host will have an FTP Server application and the local desktop will have an FTP Client application.   WinSCP and Filezilla are a couple of FTP Clients.  Some browsers and web development applications have FTP Clients already included like Internet Explorer and Dreamweaver.</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osting Server</a:t>
            </a:r>
            <a:endParaRPr b="0" lang="en-US" sz="4000" spc="-1" strike="noStrike">
              <a:solidFill>
                <a:srgbClr val="696464"/>
              </a:solidFill>
              <a:latin typeface="Franklin Gothic Book"/>
            </a:endParaRPr>
          </a:p>
        </p:txBody>
      </p:sp>
      <p:sp>
        <p:nvSpPr>
          <p:cNvPr id="2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is where the files for your website are stor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Your desktop computer can act as a Hosting Server if you have a dedicated IP Addres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Things to look for in Hosting Servers</a:t>
            </a:r>
            <a:endParaRPr b="0" lang="en-US" sz="36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perating System</a:t>
            </a:r>
            <a:br>
              <a:rPr sz="2600"/>
            </a:br>
            <a:r>
              <a:rPr b="0" lang="en-US" sz="2600" spc="-1" strike="noStrike">
                <a:solidFill>
                  <a:srgbClr val="000000"/>
                </a:solidFill>
                <a:latin typeface="Perpetua"/>
              </a:rPr>
              <a:t>Windows, Linux, Mac</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b Server</a:t>
            </a:r>
            <a:br>
              <a:rPr sz="2600"/>
            </a:br>
            <a:r>
              <a:rPr b="0" lang="en-US" sz="2600" spc="-1" strike="noStrike">
                <a:solidFill>
                  <a:srgbClr val="000000"/>
                </a:solidFill>
                <a:latin typeface="Perpetua"/>
              </a:rPr>
              <a:t>IIS, Apach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skspa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andwidt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mai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rol Pane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gramming Languages and Database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Browser Side Technology</a:t>
            </a:r>
            <a:endParaRPr b="0" lang="en-US" sz="32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ML/XHTML</a:t>
            </a:r>
            <a:br>
              <a:rPr sz="2600"/>
            </a:br>
            <a:r>
              <a:rPr b="0" lang="en-US" sz="2600" spc="-1" strike="noStrike">
                <a:solidFill>
                  <a:srgbClr val="000000"/>
                </a:solidFill>
                <a:latin typeface="Perpetua"/>
              </a:rPr>
              <a:t>[Cont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scading Style Sheets (CSS)</a:t>
            </a:r>
            <a:br>
              <a:rPr sz="2600"/>
            </a:br>
            <a:r>
              <a:rPr b="0" lang="en-US" sz="2600" spc="-1" strike="noStrike">
                <a:solidFill>
                  <a:srgbClr val="000000"/>
                </a:solidFill>
                <a:latin typeface="Perpetua"/>
              </a:rPr>
              <a:t>[Design Styl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JavaScript</a:t>
            </a:r>
            <a:br>
              <a:rPr sz="2600"/>
            </a:br>
            <a:r>
              <a:rPr b="0" lang="en-US" sz="2600" spc="-1" strike="noStrike">
                <a:solidFill>
                  <a:srgbClr val="000000"/>
                </a:solidFill>
                <a:latin typeface="Perpetua"/>
              </a:rPr>
              <a:t>[Programming and Interactivi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3schools.com is an excellent resource for learning the basics of Web Developmen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TML/XHTML</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ML</a:t>
            </a:r>
            <a:br>
              <a:rPr sz="2600"/>
            </a:br>
            <a:r>
              <a:rPr b="0" lang="en-US" sz="2600" spc="-1" strike="noStrike">
                <a:solidFill>
                  <a:srgbClr val="000000"/>
                </a:solidFill>
                <a:latin typeface="Perpetua"/>
              </a:rPr>
              <a:t>Hypertext Markup Language is the first language to learn for web development.  This will give you a good foundation for how to create a single web page, how to make links to other pages, and how to insert graphic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XHTML</a:t>
            </a:r>
            <a:br>
              <a:rPr sz="2600"/>
            </a:br>
            <a:r>
              <a:rPr b="0" lang="en-US" sz="2600" spc="-1" strike="noStrike">
                <a:solidFill>
                  <a:srgbClr val="000000"/>
                </a:solidFill>
                <a:latin typeface="Perpetua"/>
              </a:rPr>
              <a:t>eXtensible Hypertext Markup Language is very similar to HTML but more structured.  Modern websites use XHTML to structure the "content" of the page without formatting or design.</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Cascading Style Sheets</a:t>
            </a:r>
            <a:br>
              <a:rPr sz="3600"/>
            </a:br>
            <a:r>
              <a:rPr b="0" lang="en-US" sz="3600" spc="-1" strike="noStrike">
                <a:solidFill>
                  <a:srgbClr val="696464"/>
                </a:solidFill>
                <a:latin typeface="Franklin Gothic Book"/>
              </a:rPr>
              <a:t>(CSS)</a:t>
            </a:r>
            <a:endParaRPr b="0" lang="en-US" sz="36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scading Style Sheets use a language to apply skins or design templates to web pages.  It can also be used for handheld displays and printed material.</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SS takes content like XHTML and applies the fonts, colors and layout.  Background images can also be defined in CSS.</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SS can also be used with JavaScript.  As a user interacts with a web page with JavaScript, the CSS can change the style for "active" and "inactive" portions of the sit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Overview</a:t>
            </a:r>
            <a:endParaRPr b="0" lang="en-US" sz="4000" spc="-1" strike="noStrike">
              <a:solidFill>
                <a:srgbClr val="696464"/>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omain Names and IP Address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rowser Side Technolog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rver Side Technolog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b Development Tool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arch Engines and Optimiz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ent Management Systems and Development Framework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JavaScript</a:t>
            </a:r>
            <a:endParaRPr b="0" lang="en-US" sz="40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is a scripting language that runs in your browser.</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JavaScript can make the web page more interactive.</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JavaScript can respond to mouse clicks and keyboard entries.</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t can change the XHTML content and also assign different CSS styles.</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ML pages that use JavaScript are sometimes called DHTML or "Dynamic Hypertext Markup Languag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eb Browser</a:t>
            </a:r>
            <a:endParaRPr b="0" lang="en-US" sz="40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Web Browser can read XHTML, CSS and JavaScript for an interactive user experien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browser also displays graphics associated with the web page.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mages should be in "jpg", "gif" or "png" form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lug-ins can be installed on browsers to improve the browsers functionality.  (e.g. flash, java, quicktime, real player)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eb Page Request</a:t>
            </a:r>
            <a:endParaRPr b="0" lang="en-US" sz="4000" spc="-1" strike="noStrike">
              <a:solidFill>
                <a:srgbClr val="696464"/>
              </a:solidFill>
              <a:latin typeface="Franklin Gothic Book"/>
            </a:endParaRPr>
          </a:p>
        </p:txBody>
      </p:sp>
      <p:sp>
        <p:nvSpPr>
          <p:cNvPr id="240" name=""/>
          <p:cNvSpPr txBox="1"/>
          <p:nvPr/>
        </p:nvSpPr>
        <p:spPr>
          <a:xfrm>
            <a:off x="914400" y="1447920"/>
            <a:ext cx="7772400" cy="4572000"/>
          </a:xfrm>
          <a:prstGeom prst="rect">
            <a:avLst/>
          </a:prstGeom>
          <a:noFill/>
          <a:ln w="0">
            <a:noFill/>
          </a:ln>
        </p:spPr>
        <p:txBody>
          <a:bodyPr anchor="t">
            <a:normAutofit/>
          </a:bodyPr>
          <a:p>
            <a:pPr marL="514440" indent="-514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ccess a web page from a web browser.</a:t>
            </a:r>
            <a:endParaRPr b="0" lang="en-US" sz="2600" spc="-1" strike="noStrike">
              <a:solidFill>
                <a:srgbClr val="000000"/>
              </a:solidFill>
              <a:latin typeface="Perpetua"/>
            </a:endParaRPr>
          </a:p>
          <a:p>
            <a:pPr marL="514440" indent="-514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w does a "domain name" find a website</a:t>
            </a:r>
            <a:endParaRPr b="0" lang="en-US" sz="2600" spc="-1" strike="noStrike">
              <a:solidFill>
                <a:srgbClr val="000000"/>
              </a:solidFill>
              <a:latin typeface="Perpetua"/>
            </a:endParaRPr>
          </a:p>
          <a:p>
            <a:pPr marL="514440" indent="-514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is an IP Address?</a:t>
            </a:r>
            <a:endParaRPr b="0" lang="en-US" sz="2600" spc="-1" strike="noStrike">
              <a:solidFill>
                <a:srgbClr val="000000"/>
              </a:solidFill>
              <a:latin typeface="Perpetua"/>
            </a:endParaRPr>
          </a:p>
          <a:p>
            <a:pPr marL="514440" indent="-514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is a Web Host?</a:t>
            </a:r>
            <a:endParaRPr b="0" lang="en-US" sz="2600" spc="-1" strike="noStrike">
              <a:solidFill>
                <a:srgbClr val="000000"/>
              </a:solidFill>
              <a:latin typeface="Perpetua"/>
            </a:endParaRPr>
          </a:p>
          <a:p>
            <a:pPr marL="514440" indent="-514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is the purpose of a Domain Name System (D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eb Page Request</a:t>
            </a:r>
            <a:endParaRPr b="0" lang="en-US" sz="4000" spc="-1" strike="noStrike">
              <a:solidFill>
                <a:srgbClr val="696464"/>
              </a:solidFill>
              <a:latin typeface="Franklin Gothic Book"/>
            </a:endParaRPr>
          </a:p>
        </p:txBody>
      </p:sp>
      <p:pic>
        <p:nvPicPr>
          <p:cNvPr id="242" name="Content Placeholder 3" descr=""/>
          <p:cNvPicPr/>
          <p:nvPr/>
        </p:nvPicPr>
        <p:blipFill>
          <a:blip r:embed="rId1"/>
          <a:stretch/>
        </p:blipFill>
        <p:spPr>
          <a:xfrm>
            <a:off x="907920" y="1438200"/>
            <a:ext cx="7785360" cy="459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eb Page Request</a:t>
            </a:r>
            <a:endParaRPr b="0" lang="en-US" sz="4000" spc="-1" strike="noStrike">
              <a:solidFill>
                <a:srgbClr val="696464"/>
              </a:solidFill>
              <a:latin typeface="Franklin Gothic Book"/>
            </a:endParaRPr>
          </a:p>
        </p:txBody>
      </p:sp>
      <p:pic>
        <p:nvPicPr>
          <p:cNvPr id="244" name="Content Placeholder 3" descr=""/>
          <p:cNvPicPr/>
          <p:nvPr/>
        </p:nvPicPr>
        <p:blipFill>
          <a:blip r:embed="rId1"/>
          <a:stretch/>
        </p:blipFill>
        <p:spPr>
          <a:xfrm>
            <a:off x="907920" y="1438200"/>
            <a:ext cx="7785360" cy="4591080"/>
          </a:xfrm>
          <a:prstGeom prst="rect">
            <a:avLst/>
          </a:prstGeom>
          <a:ln w="0">
            <a:noFill/>
          </a:ln>
        </p:spPr>
      </p:pic>
      <p:sp>
        <p:nvSpPr>
          <p:cNvPr id="245" name="Line Callout 2 4"/>
          <p:cNvSpPr/>
          <p:nvPr/>
        </p:nvSpPr>
        <p:spPr>
          <a:xfrm>
            <a:off x="304920" y="2133720"/>
            <a:ext cx="1600200" cy="1143000"/>
          </a:xfrm>
          <a:prstGeom prst="borderCallout2">
            <a:avLst>
              <a:gd name="adj1" fmla="val 18750"/>
              <a:gd name="adj2" fmla="val -8333"/>
              <a:gd name="adj3" fmla="val 139101"/>
              <a:gd name="adj4" fmla="val 47888"/>
              <a:gd name="adj5" fmla="val 121990"/>
              <a:gd name="adj6" fmla="val 126861"/>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ookup the domain nam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nd loc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NS</a:t>
            </a:r>
            <a:endParaRPr b="0" lang="en-US" sz="1800" spc="-1" strike="noStrike">
              <a:solidFill>
                <a:srgbClr val="000000"/>
              </a:solidFill>
              <a:latin typeface="Arial"/>
            </a:endParaRPr>
          </a:p>
        </p:txBody>
      </p:sp>
      <p:sp>
        <p:nvSpPr>
          <p:cNvPr id="246" name="Line Callout 2 5"/>
          <p:cNvSpPr/>
          <p:nvPr/>
        </p:nvSpPr>
        <p:spPr>
          <a:xfrm>
            <a:off x="6781680" y="1066680"/>
            <a:ext cx="1219320" cy="1143000"/>
          </a:xfrm>
          <a:prstGeom prst="borderCallout2">
            <a:avLst>
              <a:gd name="adj1" fmla="val 18750"/>
              <a:gd name="adj2" fmla="val -8333"/>
              <a:gd name="adj3" fmla="val 48972"/>
              <a:gd name="adj4" fmla="val -41120"/>
              <a:gd name="adj5" fmla="val 69074"/>
              <a:gd name="adj6" fmla="val -100370"/>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ind the IP Addres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f Domain name</a:t>
            </a:r>
            <a:endParaRPr b="0" lang="en-US" sz="1800" spc="-1" strike="noStrike">
              <a:solidFill>
                <a:srgbClr val="000000"/>
              </a:solidFill>
              <a:latin typeface="Arial"/>
            </a:endParaRPr>
          </a:p>
        </p:txBody>
      </p:sp>
      <p:sp>
        <p:nvSpPr>
          <p:cNvPr id="247" name="Line Callout 2 6"/>
          <p:cNvSpPr/>
          <p:nvPr/>
        </p:nvSpPr>
        <p:spPr>
          <a:xfrm>
            <a:off x="7543800" y="2819520"/>
            <a:ext cx="1219320" cy="1143000"/>
          </a:xfrm>
          <a:prstGeom prst="borderCallout2">
            <a:avLst>
              <a:gd name="adj1" fmla="val 18750"/>
              <a:gd name="adj2" fmla="val -8333"/>
              <a:gd name="adj3" fmla="val 48972"/>
              <a:gd name="adj4" fmla="val -12162"/>
              <a:gd name="adj5" fmla="val 44495"/>
              <a:gd name="adj6" fmla="val -27027"/>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ocate the Web Hosting Server</a:t>
            </a:r>
            <a:endParaRPr b="0" lang="en-US" sz="1800" spc="-1" strike="noStrike">
              <a:solidFill>
                <a:srgbClr val="000000"/>
              </a:solidFill>
              <a:latin typeface="Arial"/>
            </a:endParaRPr>
          </a:p>
        </p:txBody>
      </p:sp>
      <p:sp>
        <p:nvSpPr>
          <p:cNvPr id="248" name="Line Callout 2 7"/>
          <p:cNvSpPr/>
          <p:nvPr/>
        </p:nvSpPr>
        <p:spPr>
          <a:xfrm>
            <a:off x="7696080" y="4800600"/>
            <a:ext cx="1219320" cy="1143000"/>
          </a:xfrm>
          <a:prstGeom prst="borderCallout2">
            <a:avLst>
              <a:gd name="adj1" fmla="val 18750"/>
              <a:gd name="adj2" fmla="val -8333"/>
              <a:gd name="adj3" fmla="val 48972"/>
              <a:gd name="adj4" fmla="val -23888"/>
              <a:gd name="adj5" fmla="val 46314"/>
              <a:gd name="adj6" fmla="val -89490"/>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end Web Pages to Browser</a:t>
            </a:r>
            <a:endParaRPr b="0" lang="en-US" sz="1800" spc="-1" strike="noStrike">
              <a:solidFill>
                <a:srgbClr val="000000"/>
              </a:solidFill>
              <a:latin typeface="Arial"/>
            </a:endParaRPr>
          </a:p>
        </p:txBody>
      </p:sp>
      <p:sp>
        <p:nvSpPr>
          <p:cNvPr id="249" name="Line Callout 2 8"/>
          <p:cNvSpPr/>
          <p:nvPr/>
        </p:nvSpPr>
        <p:spPr>
          <a:xfrm>
            <a:off x="457200" y="4800600"/>
            <a:ext cx="1219320" cy="1143000"/>
          </a:xfrm>
          <a:prstGeom prst="borderCallout2">
            <a:avLst>
              <a:gd name="adj1" fmla="val 18750"/>
              <a:gd name="adj2" fmla="val -8333"/>
              <a:gd name="adj3" fmla="val 52013"/>
              <a:gd name="adj4" fmla="val 164662"/>
              <a:gd name="adj5" fmla="val 51171"/>
              <a:gd name="adj6" fmla="val 208212"/>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equest a web p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main Name</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op Level Domain</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rg</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ov</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du</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uk</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jp</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u</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main Name</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Level Domain</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oogle.com</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boutsafe.org</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a.gov</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dccd.edu</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uk</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erformingarts.jp</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au</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main Name</a:t>
            </a:r>
            <a:endParaRPr b="0" lang="en-US" sz="40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Level Domain</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aps.google.com</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ww.aboutsafe.org</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ww.ca.gov</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search.sdccd.edu</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uardian.co.uk</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japantimes.co.jp</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bay.com.au</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Domain Name Registrar</a:t>
            </a:r>
            <a:br>
              <a:rPr sz="3200"/>
            </a:br>
            <a:r>
              <a:rPr b="0" lang="en-US" sz="3200" spc="-1" strike="noStrike">
                <a:solidFill>
                  <a:srgbClr val="000000"/>
                </a:solidFill>
                <a:latin typeface="Perpetua"/>
              </a:rPr>
              <a:t>(source: Wikipedia)</a:t>
            </a:r>
            <a:endParaRPr b="0" lang="en-US" sz="32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a:t>
            </a:r>
            <a:r>
              <a:rPr b="1" lang="en-US" sz="2400" spc="-1" strike="noStrike">
                <a:solidFill>
                  <a:srgbClr val="000000"/>
                </a:solidFill>
                <a:latin typeface="Perpetua"/>
              </a:rPr>
              <a:t>domain name registrar</a:t>
            </a:r>
            <a:r>
              <a:rPr b="0" lang="en-US" sz="2400" spc="-1" strike="noStrike">
                <a:solidFill>
                  <a:srgbClr val="000000"/>
                </a:solidFill>
                <a:latin typeface="Perpetua"/>
              </a:rPr>
              <a:t> is a company accredited by the </a:t>
            </a:r>
            <a:r>
              <a:rPr b="1" lang="en-US" sz="2400" spc="-1" strike="noStrike">
                <a:solidFill>
                  <a:srgbClr val="000000"/>
                </a:solidFill>
                <a:latin typeface="Perpetua"/>
              </a:rPr>
              <a:t>Internet Corporation for Assigned Names and Numbers</a:t>
            </a:r>
            <a:r>
              <a:rPr b="0" lang="en-US" sz="2400" spc="-1" strike="noStrike">
                <a:solidFill>
                  <a:srgbClr val="000000"/>
                </a:solidFill>
                <a:latin typeface="Perpetua"/>
              </a:rPr>
              <a:t> (ICANN) and/or by a national ccTLD authority to register Internet domain names. These "retail" companies are often distinct from the "wholesale" domain name registry operator.</a:t>
            </a:r>
            <a:endParaRPr b="0" lang="en-US" sz="2400" spc="-1" strike="noStrike">
              <a:solidFill>
                <a:srgbClr val="000000"/>
              </a:solidFill>
              <a:latin typeface="Perpetua"/>
            </a:endParaRPr>
          </a:p>
          <a:p>
            <a:pPr marL="242640" indent="-2426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Internet Corporation for Assigned Names and Numbers, or ICANN, has authority over generic top-level domains, or gTLDs. Examples of gTLDs include .com, .net, .org and .mobi. ICANN does not have authority over ccTLDs, or Country Code Top-Level Domains, although it is quite common for domain name registrars to offer ccTLD registration services as well. Most registrars provide DNS hosting service, but this is not required, and is often considered a separate service.</a:t>
            </a:r>
            <a:endParaRPr b="0" lang="en-US" sz="2400" spc="-1" strike="noStrike">
              <a:solidFill>
                <a:srgbClr val="000000"/>
              </a:solidFill>
              <a:latin typeface="Perpetua"/>
            </a:endParaRPr>
          </a:p>
          <a:p>
            <a:pPr lvl="1" marL="487080" indent="-203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dtaniguchi</dc:creator>
  <dc:description/>
  <dc:language>en-US</dc:language>
  <cp:lastModifiedBy>David Taniguchi</cp:lastModifiedBy>
  <dcterms:modified xsi:type="dcterms:W3CDTF">2011-02-02T03:02:31Z</dcterms:modified>
  <cp:revision>48</cp:revision>
  <dc:subject/>
  <dc:title>Introduction to Web Development</dc:title>
</cp:coreProperties>
</file>