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CD089-8D76-46F3-8EB0-8302FAB18F29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FC2F8-C5C4-4A8C-AA9A-AC084746ABC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0EAA4-E179-41CD-AC91-057C99494109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41200" indent="-241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structure (HTML) and behavior (J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1200" indent="-241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need an onclick for every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BE95C-D072-4E94-B070-54BDB13F1CD9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5FF5B-F4FB-492F-A38E-31995FC0012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CFAFE-6155-4F0A-A105-724CD73C05F9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71C14-1735-44FE-8B65-F4C3EFC4D15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E9D1A-5DCC-4A84-895D-1297899D639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9AA-5E7C-438B-8D9E-879E0003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F2F-2EFD-432C-985A-669B0AD0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BF2-1D94-4D39-A228-64C338EE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647-C4DF-4634-ACA6-D8077D70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AC3F-B72C-42EB-A1B7-04E2A358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7CE3-9A8D-4C68-BAA7-1AAE35ED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3067-D90B-4C9A-8F76-2C9FB1F5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EFCB-BE90-4D4B-BE22-8DDD89C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5CC3-588B-4317-8C65-CFD10B7D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0A07-AB78-4465-9A10-AD6F807D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E99C-FE2A-4FD2-8689-A3054A47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F68-6E88-4E85-AF81-40F67F3A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FA78-EE6F-4C9C-9097-23CAAFA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F42A-4032-4B98-BDFA-5DAD0E54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DE70-296D-44EA-A0C2-AD4A04F2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351A-68D1-4206-A0DC-00DA27A5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EFE3-C000-4DEE-95CA-AFBC4FCA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788B-67DC-4032-AABB-09BDDC04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28D9-DC10-4A35-9B54-60A13079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E86B-E572-40B0-A40D-A0A657C6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DE3E-BDBA-4E38-A4D4-532C65EC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D696-D1F0-44CF-B91D-8F71F47C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7D8-BD9A-43D5-B13C-E5104350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6D84-B689-4003-8B09-450875D1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1C7A-269C-4E99-9AB5-6C656BFF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A82C-C814-4192-951B-4A3CF706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A4243-1CB9-4E06-8E82-6623528A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0B336-DFDF-4B94-B40F-64BC3E10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11D7-1DD2-4B35-BE8B-7CE34850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9B8C2-7E26-4D78-AB6E-275BFC53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AC3F5-E9C0-42FE-8891-BD77EBE1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B316-5731-49A8-A7ED-F1F3BC99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CC70F-DB63-448C-AF1D-EFF3C83B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4EB-6DA3-4105-8783-1A6954F1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C3EC4-6C0A-4903-B725-FE0FF060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F06CE-C0CC-45BA-8E19-9EDC44CB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0CB66-D46D-4F62-9AF1-E75FA1B7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0AB25-C07E-4F83-806E-519D4F55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A7C52-7C9B-42B0-9B31-3721E6C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18279-38FE-40FB-8528-8EBC4AB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C747-33E2-467A-8F58-0E0CAB45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15B24-7E18-403F-AE29-1F53E104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C041B-B8D2-40B1-9BC5-A5A739E2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1118B-C338-4559-8BDE-74B240DA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5B0-E23A-418B-8A7F-8DF1D656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62AB2-B344-43F1-8C4C-0AF9103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70AF5-144F-4D69-A935-9ED9206B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39BA9-F7C8-4631-9FEB-452A0920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308BC-F9A8-4A0B-A149-36AC8E1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97C8E-0BF8-4334-B992-10519908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DDD4A-D13C-450C-8C77-2CD6829A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C550-4D91-41B6-883F-192254C5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A81F4-02D4-4C71-9ECF-C45853B8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D982-9DED-4FB1-9E78-B08CFF53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228FC-F98A-47DE-BF01-FA44DD40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950-E803-4568-95FD-BD4FAC44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80D39-4727-46FD-968F-09211D5E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3B43F-64AD-4977-BAFA-D0BE8B34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B9109-AA27-4B6B-B246-57750FBB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B804-625A-4CB7-AB4F-7FB63E4D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157CC-F251-4061-B9F1-6896692E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46892-5D36-4ED9-B49E-5A1E5F24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39EC7-19EC-4E7D-8476-2EFE9ED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DEBF4-DE0C-4292-89A6-DECA1E06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F9E8F-AB5B-4330-9289-AA5CC6DA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5D143-E8A5-4034-A869-3A02F4CD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2F0-5549-4B68-AA81-1FCAF29A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02FE9-272F-47AE-B246-DE2C8033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1953B-4716-4935-A907-8142205D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6634D-D509-49CF-8E28-FDEC49C2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009-774D-46BD-AA98-C5AB9EB9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0C2-600B-48ED-91BA-4B7DA3B9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e9c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Copyright 2002 Terry Fel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70A5-88E8-4768-84E5-D4CD13776D04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63"/>
            </a:gs>
            <a:gs pos="100000">
              <a:srgbClr val="5e94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e9c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Copyright 2010 Terry Mor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D240-B138-4D30-977F-BF2A537F4874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63"/>
            </a:gs>
            <a:gs pos="100000">
              <a:srgbClr val="5e94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e9c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Copyright 2002 Terry Fel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3F4D-21F7-4A2B-9EFB-A996E1EAF837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e9c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Copyright 2002 Terry Fel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C9B8-2C89-48E5-A41A-D3FCC30CBFC3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e9c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Copyright 2002 Terry Fel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C8FB-9F21-409C-91D3-195EE3871476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e9c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Copyright 2002 Terry Fel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439C-BBF8-46D8-A2D3-2103618BD845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igsaw.w3.org/css-validator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w3schools.com/jquery/jquery_ref_selectors.asp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w3schools.com/jquery/jquery_ref_events.asp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7f8fd"/>
                </a:solidFill>
                <a:latin typeface="Franklin Gothic Book"/>
              </a:rPr>
              <a:t>Mobile Web Design Best Practic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976040" y="1828800"/>
            <a:ext cx="6877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7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Approaches to Mobile Web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7400">
              <a:spcBef>
                <a:spcPts val="700"/>
              </a:spcBef>
              <a:buClr>
                <a:srgbClr val="ffbe5f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new mobile site with a .mobi T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400">
              <a:spcBef>
                <a:spcPts val="700"/>
              </a:spcBef>
              <a:buClr>
                <a:srgbClr val="ffbe5f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separate website hosted within your current domain targeted for mobile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400">
              <a:spcBef>
                <a:spcPts val="700"/>
              </a:spcBef>
              <a:buClr>
                <a:srgbClr val="ffbe5f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SS to configure your current website for display on both mobile and desktop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200" indent="-222120">
              <a:spcBef>
                <a:spcPts val="700"/>
              </a:spcBef>
              <a:buClr>
                <a:srgbClr val="ffbe5f"/>
              </a:buClr>
              <a:buSzPct val="9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Figure7"/>
          <p:cNvPicPr/>
          <p:nvPr/>
        </p:nvPicPr>
        <p:blipFill>
          <a:blip r:embed="rId1"/>
          <a:stretch/>
        </p:blipFill>
        <p:spPr>
          <a:xfrm>
            <a:off x="228600" y="1676520"/>
            <a:ext cx="1725480" cy="28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esting Mobile Display Opt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st with a mobile de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mulato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pera Mobile Emulato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bi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pera Mini Simula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Phone Emula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est with a Desktop Brow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stall an iOS or Android SD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2724-2D37-48AA-9F26-D4F656E5AE81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704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470560" cy="77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7f8fd"/>
                </a:solidFill>
                <a:latin typeface="Franklin Gothic Book"/>
              </a:rPr>
              <a:t>CSS Debugging Ti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21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ually check syntax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W3C CSS Validator to check  syntax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http://jigsaw.w3.org/css-validator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gure temporary background col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gure temporary b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CSS comments to find the unex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* the browser ignores this cod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expect your pages to look exactly the same in all browse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ati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3132-E51D-4996-A91D-4A8BFA31E7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is jQuery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library of JavaScript fun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ect and manipulate 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ipulate C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vaScript Effects and anim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ML DOM traversal and modif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J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t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Getting Starte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TextBox 4"/>
          <p:cNvSpPr/>
          <p:nvPr/>
        </p:nvSpPr>
        <p:spPr>
          <a:xfrm>
            <a:off x="685800" y="1600200"/>
            <a:ext cx="6705720" cy="6677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!DOCTYPE 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itle&gt;Fun with jQuery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bod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h2&gt;Hello, jQuery!&lt;/h2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button id='btnOuch'&gt;Say Ouch&lt;/button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dbe7b6"/>
                </a:solidFill>
                <a:latin typeface="Arial"/>
              </a:rPr>
              <a:t>&lt;script src="http://code.jquery.com/jquery.js"&gt;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e7b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dbe7b6"/>
                </a:solidFill>
                <a:latin typeface="Arial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e7b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dbe7b6"/>
                </a:solidFill>
                <a:latin typeface="Arial"/>
              </a:rPr>
              <a:t>$("#btnOuch").click(function(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e7b6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dbe7b6"/>
                </a:solidFill>
                <a:latin typeface="Arial"/>
              </a:rPr>
              <a:t>alert("Ouch! That hurt.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e7b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dbe7b6"/>
                </a:solidFill>
                <a:latin typeface="Arial"/>
              </a:rPr>
              <a:t>}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e7b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dbe7b6"/>
                </a:solidFill>
                <a:latin typeface="Arial"/>
              </a:rPr>
              <a:t>&lt;/script&gt;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257800" y="837720"/>
            <a:ext cx="3581280" cy="258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clude jQuery in the source 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fine jQuery func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ave this file as index.htm in a 216/jQuery subdirectory on 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y it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 1:  A Closer Loo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("#btnOuch") selects the element with ID btnO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() binds a click event to selected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nction executes when the click event is fi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962520"/>
            <a:ext cx="4800600" cy="19234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e7b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dbe7b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dbe7b6"/>
                </a:solidFill>
                <a:latin typeface="Arial"/>
              </a:rPr>
              <a:t>$("#btnOuch").click(function(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e7b6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dbe7b6"/>
                </a:solidFill>
                <a:latin typeface="Arial"/>
              </a:rPr>
              <a:t>alert("Ouch! That hurt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e7b6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dbe7b6"/>
                </a:solidFill>
                <a:latin typeface="Arial"/>
              </a:rPr>
              <a:t>}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Diagram 6" descr=""/>
          <p:cNvPicPr/>
          <p:nvPr/>
        </p:nvPicPr>
        <p:blipFill>
          <a:blip r:embed="rId1"/>
          <a:stretch/>
        </p:blipFill>
        <p:spPr>
          <a:xfrm>
            <a:off x="907920" y="3657600"/>
            <a:ext cx="3073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w jQuery Work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jQuery syntax is used to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HTML elements and perform som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 those element(s)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ic syntax: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$(selector).action(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dollar sign to define jQu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(selector) to find HTML el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 action() to be performed on the element(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752480" y="6019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w3schools.com/jquery/jquery_syntax.a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jQuery Selecto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2" name="Table 3" descr=""/>
          <p:cNvPicPr/>
          <p:nvPr/>
        </p:nvPicPr>
        <p:blipFill>
          <a:blip r:embed="rId1"/>
          <a:stretch/>
        </p:blipFill>
        <p:spPr>
          <a:xfrm>
            <a:off x="384120" y="1695600"/>
            <a:ext cx="8375760" cy="37353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1219320" y="587844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a full reference please se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2"/>
              </a:rPr>
              <a:t>jQuery Selectors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mparis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54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6172200" y="2644920"/>
            <a:ext cx="1676520" cy="1313640"/>
          </a:xfrm>
          <a:prstGeom prst="rect">
            <a:avLst/>
          </a:prstGeom>
          <a:solidFill>
            <a:srgbClr val="000000"/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hat are the advantages of the jQuery metho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TextBox 3"/>
          <p:cNvGrpSpPr/>
          <p:nvPr/>
        </p:nvGrpSpPr>
        <p:grpSpPr>
          <a:xfrm>
            <a:off x="944640" y="2871720"/>
            <a:ext cx="4730760" cy="1176480"/>
            <a:chOff x="944640" y="2871720"/>
            <a:chExt cx="4730760" cy="1176480"/>
          </a:xfrm>
        </p:grpSpPr>
        <p:pic>
          <p:nvPicPr>
            <p:cNvPr id="328" name="TextBox 3" descr=""/>
            <p:cNvPicPr/>
            <p:nvPr/>
          </p:nvPicPr>
          <p:blipFill>
            <a:blip r:embed="rId1"/>
            <a:stretch/>
          </p:blipFill>
          <p:spPr>
            <a:xfrm>
              <a:off x="944640" y="2871720"/>
              <a:ext cx="4730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022400" y="2952720"/>
              <a:ext cx="457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$("a").click(function(){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lert("You clicked a link!")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})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TextBox 5"/>
          <p:cNvGrpSpPr/>
          <p:nvPr/>
        </p:nvGrpSpPr>
        <p:grpSpPr>
          <a:xfrm>
            <a:off x="981000" y="4529160"/>
            <a:ext cx="6742080" cy="560520"/>
            <a:chOff x="981000" y="4529160"/>
            <a:chExt cx="6742080" cy="560520"/>
          </a:xfrm>
        </p:grpSpPr>
        <p:pic>
          <p:nvPicPr>
            <p:cNvPr id="331" name="TextBox 5" descr=""/>
            <p:cNvPicPr/>
            <p:nvPr/>
          </p:nvPicPr>
          <p:blipFill>
            <a:blip r:embed="rId2"/>
            <a:stretch/>
          </p:blipFill>
          <p:spPr>
            <a:xfrm>
              <a:off x="981000" y="4529160"/>
              <a:ext cx="67420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067400" y="4610160"/>
              <a:ext cx="65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a href="#" onclick="alert(‘You clicked a link!')"&gt;Link&lt;/a&g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 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1219320" y="2286000"/>
            <a:ext cx="6629400" cy="22885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h2").click(function(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this).hide("slow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TextBox 2"/>
          <p:cNvGrpSpPr/>
          <p:nvPr/>
        </p:nvGrpSpPr>
        <p:grpSpPr>
          <a:xfrm>
            <a:off x="5699160" y="3718080"/>
            <a:ext cx="2549520" cy="2433600"/>
            <a:chOff x="5699160" y="3718080"/>
            <a:chExt cx="2549520" cy="2433600"/>
          </a:xfrm>
        </p:grpSpPr>
        <p:pic>
          <p:nvPicPr>
            <p:cNvPr id="336" name="TextBox 2" descr=""/>
            <p:cNvPicPr/>
            <p:nvPr/>
          </p:nvPicPr>
          <p:blipFill>
            <a:blip r:embed="rId1"/>
            <a:stretch/>
          </p:blipFill>
          <p:spPr>
            <a:xfrm>
              <a:off x="5699160" y="3718080"/>
              <a:ext cx="2549520" cy="24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791320" y="3809880"/>
              <a:ext cx="23619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hat will this do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hat happens if you have more than one h2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y it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 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1219320" y="2286000"/>
            <a:ext cx="6629400" cy="22885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#btnHideBlue").click(function(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p.blue").hide("slow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TextBox 6"/>
          <p:cNvGrpSpPr/>
          <p:nvPr/>
        </p:nvGrpSpPr>
        <p:grpSpPr>
          <a:xfrm>
            <a:off x="3565440" y="1584360"/>
            <a:ext cx="4835520" cy="890640"/>
            <a:chOff x="3565440" y="1584360"/>
            <a:chExt cx="4835520" cy="890640"/>
          </a:xfrm>
        </p:grpSpPr>
        <p:pic>
          <p:nvPicPr>
            <p:cNvPr id="341" name="TextBox 6" descr=""/>
            <p:cNvPicPr/>
            <p:nvPr/>
          </p:nvPicPr>
          <p:blipFill>
            <a:blip r:embed="rId1"/>
            <a:stretch/>
          </p:blipFill>
          <p:spPr>
            <a:xfrm>
              <a:off x="3565440" y="1584360"/>
              <a:ext cx="48355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3657600" y="1676520"/>
              <a:ext cx="46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ide all blue paragraphs when btnHideBlue is click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Rectangle 7"/>
          <p:cNvGrpSpPr/>
          <p:nvPr/>
        </p:nvGrpSpPr>
        <p:grpSpPr>
          <a:xfrm>
            <a:off x="1133640" y="4797360"/>
            <a:ext cx="6791040" cy="622440"/>
            <a:chOff x="1133640" y="4797360"/>
            <a:chExt cx="6791040" cy="622440"/>
          </a:xfrm>
        </p:grpSpPr>
        <p:pic>
          <p:nvPicPr>
            <p:cNvPr id="344" name="Rectangle 7" descr=""/>
            <p:cNvPicPr/>
            <p:nvPr/>
          </p:nvPicPr>
          <p:blipFill>
            <a:blip r:embed="rId2"/>
            <a:stretch/>
          </p:blipFill>
          <p:spPr>
            <a:xfrm>
              <a:off x="1133640" y="4797360"/>
              <a:ext cx="67910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212840" y="487692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&lt;button id='btnHideBlue'&gt;Hide Blue&lt;/button&gt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7f8fd"/>
                </a:solidFill>
                <a:latin typeface="Franklin Gothic Book"/>
              </a:rPr>
              <a:t>Mobile Web Limitat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mall Screen Siz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w bandwid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ed fo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ed col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wkward contr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ed processor and mem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per kiloby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Figure7"/>
          <p:cNvPicPr/>
          <p:nvPr/>
        </p:nvPicPr>
        <p:blipFill>
          <a:blip r:embed="rId1"/>
          <a:stretch/>
        </p:blipFill>
        <p:spPr>
          <a:xfrm>
            <a:off x="5943600" y="1523880"/>
            <a:ext cx="1725480" cy="28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jQuery Ev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384120" y="1511280"/>
            <a:ext cx="8375760" cy="33847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4"/>
          <p:cNvSpPr/>
          <p:nvPr/>
        </p:nvSpPr>
        <p:spPr>
          <a:xfrm>
            <a:off x="457200" y="5943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a full jQuery event reference, please se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2"/>
              </a:rPr>
              <a:t>jQuery Events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 4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609480" y="2050920"/>
            <a:ext cx="7391520" cy="22885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#lemon").mouseover(function(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this).append(" Cookie!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TextBox 4"/>
          <p:cNvGrpSpPr/>
          <p:nvPr/>
        </p:nvGrpSpPr>
        <p:grpSpPr>
          <a:xfrm>
            <a:off x="5089680" y="1432080"/>
            <a:ext cx="3384360" cy="890280"/>
            <a:chOff x="5089680" y="1432080"/>
            <a:chExt cx="3384360" cy="890280"/>
          </a:xfrm>
        </p:grpSpPr>
        <p:pic>
          <p:nvPicPr>
            <p:cNvPr id="352" name="TextBox 4" descr=""/>
            <p:cNvPicPr/>
            <p:nvPr/>
          </p:nvPicPr>
          <p:blipFill>
            <a:blip r:embed="rId1"/>
            <a:stretch/>
          </p:blipFill>
          <p:spPr>
            <a:xfrm>
              <a:off x="5089680" y="1432080"/>
              <a:ext cx="3384360" cy="89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81480" y="1523880"/>
              <a:ext cx="320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ppend text to paragraph lemon on mouseo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" name="Rectangle 6"/>
          <p:cNvGrpSpPr/>
          <p:nvPr/>
        </p:nvGrpSpPr>
        <p:grpSpPr>
          <a:xfrm>
            <a:off x="517680" y="4565520"/>
            <a:ext cx="7578720" cy="646200"/>
            <a:chOff x="517680" y="4565520"/>
            <a:chExt cx="7578720" cy="646200"/>
          </a:xfrm>
        </p:grpSpPr>
        <p:pic>
          <p:nvPicPr>
            <p:cNvPr id="355" name="Rectangle 6" descr=""/>
            <p:cNvPicPr/>
            <p:nvPr/>
          </p:nvPicPr>
          <p:blipFill>
            <a:blip r:embed="rId2"/>
            <a:stretch/>
          </p:blipFill>
          <p:spPr>
            <a:xfrm>
              <a:off x="517680" y="4565520"/>
              <a:ext cx="7578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609480" y="465948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&lt;p id='lemon'&gt;Lemon drops biscuit chocolate…&lt;/p&gt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nipulating CS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" name="Content Placeholder 3" descr=""/>
          <p:cNvPicPr/>
          <p:nvPr/>
        </p:nvPicPr>
        <p:blipFill>
          <a:blip r:embed="rId1"/>
          <a:stretch/>
        </p:blipFill>
        <p:spPr>
          <a:xfrm>
            <a:off x="384120" y="1682640"/>
            <a:ext cx="8205840" cy="30909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"/>
          <p:cNvSpPr/>
          <p:nvPr/>
        </p:nvSpPr>
        <p:spPr>
          <a:xfrm>
            <a:off x="975240" y="5865120"/>
            <a:ext cx="70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a full jQuery CSS reference, please see jQuery CSS Methods Refer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more on the css function, se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api.jquery.com/css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457200" y="358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 5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609480" y="1998720"/>
            <a:ext cx="6934320" cy="22885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#btnColor").click(function(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#lemon").addClass("blu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TextBox 4"/>
          <p:cNvGrpSpPr/>
          <p:nvPr/>
        </p:nvGrpSpPr>
        <p:grpSpPr>
          <a:xfrm>
            <a:off x="4102200" y="1030320"/>
            <a:ext cx="4565520" cy="890640"/>
            <a:chOff x="4102200" y="1030320"/>
            <a:chExt cx="4565520" cy="890640"/>
          </a:xfrm>
        </p:grpSpPr>
        <p:pic>
          <p:nvPicPr>
            <p:cNvPr id="364" name="TextBox 4" descr=""/>
            <p:cNvPicPr/>
            <p:nvPr/>
          </p:nvPicPr>
          <p:blipFill>
            <a:blip r:embed="rId1"/>
            <a:stretch/>
          </p:blipFill>
          <p:spPr>
            <a:xfrm>
              <a:off x="4102200" y="1030320"/>
              <a:ext cx="45655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191120" y="1120680"/>
              <a:ext cx="4386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nge color of paragraph lemon when btnColor is click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Rectangle 7"/>
          <p:cNvGrpSpPr/>
          <p:nvPr/>
        </p:nvGrpSpPr>
        <p:grpSpPr>
          <a:xfrm>
            <a:off x="2706840" y="3968640"/>
            <a:ext cx="2968560" cy="3455640"/>
            <a:chOff x="2706840" y="3968640"/>
            <a:chExt cx="2968560" cy="3455640"/>
          </a:xfrm>
        </p:grpSpPr>
        <p:pic>
          <p:nvPicPr>
            <p:cNvPr id="367" name="Rectangle 7" descr=""/>
            <p:cNvPicPr/>
            <p:nvPr/>
          </p:nvPicPr>
          <p:blipFill>
            <a:blip r:embed="rId2"/>
            <a:stretch/>
          </p:blipFill>
          <p:spPr>
            <a:xfrm>
              <a:off x="2706840" y="3968640"/>
              <a:ext cx="2968560" cy="24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81360" y="4038480"/>
              <a:ext cx="28195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&lt;style type="text/css"&gt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red{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lor:red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blue{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lor:blue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&lt;/style&gt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 6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Rectangle 1"/>
          <p:cNvSpPr/>
          <p:nvPr/>
        </p:nvSpPr>
        <p:spPr>
          <a:xfrm>
            <a:off x="457200" y="358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TextBox 8"/>
          <p:cNvGrpSpPr/>
          <p:nvPr/>
        </p:nvGrpSpPr>
        <p:grpSpPr>
          <a:xfrm>
            <a:off x="2498760" y="4784760"/>
            <a:ext cx="3689280" cy="1201680"/>
            <a:chOff x="2498760" y="4784760"/>
            <a:chExt cx="3689280" cy="1201680"/>
          </a:xfrm>
        </p:grpSpPr>
        <p:pic>
          <p:nvPicPr>
            <p:cNvPr id="372" name="TextBox 8" descr=""/>
            <p:cNvPicPr/>
            <p:nvPr/>
          </p:nvPicPr>
          <p:blipFill>
            <a:blip r:embed="rId1"/>
            <a:stretch/>
          </p:blipFill>
          <p:spPr>
            <a:xfrm>
              <a:off x="2498760" y="4784760"/>
              <a:ext cx="36892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590920" y="4876920"/>
              <a:ext cx="3504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isplay the color of the paragraph lemon when btnColorCheck is clicked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Rectangle 2"/>
          <p:cNvGrpSpPr/>
          <p:nvPr/>
        </p:nvGrpSpPr>
        <p:grpSpPr>
          <a:xfrm>
            <a:off x="592920" y="2730600"/>
            <a:ext cx="4094280" cy="549000"/>
            <a:chOff x="592920" y="2730600"/>
            <a:chExt cx="4094280" cy="549000"/>
          </a:xfrm>
        </p:grpSpPr>
        <p:pic>
          <p:nvPicPr>
            <p:cNvPr id="375" name="Rectangle 2" descr=""/>
            <p:cNvPicPr/>
            <p:nvPr/>
          </p:nvPicPr>
          <p:blipFill>
            <a:blip r:embed="rId2"/>
            <a:stretch/>
          </p:blipFill>
          <p:spPr>
            <a:xfrm>
              <a:off x="974880" y="2730600"/>
              <a:ext cx="332892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92920" y="2819520"/>
              <a:ext cx="40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color is the paragraph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Rectangle 6"/>
          <p:cNvSpPr/>
          <p:nvPr/>
        </p:nvSpPr>
        <p:spPr>
          <a:xfrm>
            <a:off x="609480" y="1998720"/>
            <a:ext cx="7620120" cy="22885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$("#btnColorCheck").click(function(){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ert($("#lemon").css("color"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}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 7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914400" y="3319560"/>
            <a:ext cx="7205760" cy="19227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p").dblclick(function(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this).css("background-color", "yellow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)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TextBox 4"/>
          <p:cNvGrpSpPr/>
          <p:nvPr/>
        </p:nvGrpSpPr>
        <p:grpSpPr>
          <a:xfrm>
            <a:off x="1889280" y="2236680"/>
            <a:ext cx="4987800" cy="890640"/>
            <a:chOff x="1889280" y="2236680"/>
            <a:chExt cx="4987800" cy="890640"/>
          </a:xfrm>
        </p:grpSpPr>
        <p:pic>
          <p:nvPicPr>
            <p:cNvPr id="381" name="TextBox 4" descr=""/>
            <p:cNvPicPr/>
            <p:nvPr/>
          </p:nvPicPr>
          <p:blipFill>
            <a:blip r:embed="rId1"/>
            <a:stretch/>
          </p:blipFill>
          <p:spPr>
            <a:xfrm>
              <a:off x="1889280" y="2236680"/>
              <a:ext cx="498780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1981080" y="2328840"/>
              <a:ext cx="480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ighlight (background-color = yellow) any paragraph that is double-click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jQuery Effec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4" name="Content Placeholder 4" descr=""/>
          <p:cNvPicPr/>
          <p:nvPr/>
        </p:nvPicPr>
        <p:blipFill>
          <a:blip r:embed="rId1"/>
          <a:stretch/>
        </p:blipFill>
        <p:spPr>
          <a:xfrm>
            <a:off x="689040" y="1530360"/>
            <a:ext cx="75405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 8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914400" y="2584440"/>
            <a:ext cx="6172200" cy="22885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#btnToggle").click(function(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#lemon").slideToggle("slow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TextBox 4"/>
          <p:cNvGrpSpPr/>
          <p:nvPr/>
        </p:nvGrpSpPr>
        <p:grpSpPr>
          <a:xfrm>
            <a:off x="5241960" y="1584360"/>
            <a:ext cx="2927160" cy="1201680"/>
            <a:chOff x="5241960" y="1584360"/>
            <a:chExt cx="2927160" cy="1201680"/>
          </a:xfrm>
        </p:grpSpPr>
        <p:pic>
          <p:nvPicPr>
            <p:cNvPr id="388" name="TextBox 4" descr=""/>
            <p:cNvPicPr/>
            <p:nvPr/>
          </p:nvPicPr>
          <p:blipFill>
            <a:blip r:embed="rId1"/>
            <a:stretch/>
          </p:blipFill>
          <p:spPr>
            <a:xfrm>
              <a:off x="5241960" y="1584360"/>
              <a:ext cx="29271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334120" y="1679400"/>
              <a:ext cx="2743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reate a toggle but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at shows/hides paragraph lemon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 9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1219320" y="2514600"/>
            <a:ext cx="6629400" cy="22885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#btnFade").click(function(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#lemon").fadeTo("slow", 0.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TextBox 6"/>
          <p:cNvGrpSpPr/>
          <p:nvPr/>
        </p:nvGrpSpPr>
        <p:grpSpPr>
          <a:xfrm>
            <a:off x="4559400" y="4406760"/>
            <a:ext cx="2927160" cy="1506600"/>
            <a:chOff x="4559400" y="4406760"/>
            <a:chExt cx="2927160" cy="1506600"/>
          </a:xfrm>
        </p:grpSpPr>
        <p:pic>
          <p:nvPicPr>
            <p:cNvPr id="393" name="TextBox 6" descr=""/>
            <p:cNvPicPr/>
            <p:nvPr/>
          </p:nvPicPr>
          <p:blipFill>
            <a:blip r:embed="rId1"/>
            <a:stretch/>
          </p:blipFill>
          <p:spPr>
            <a:xfrm>
              <a:off x="4559400" y="4406760"/>
              <a:ext cx="292716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4648320" y="4495680"/>
              <a:ext cx="2743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ade paragraph lemon to 50% opacity when btnFade is clicked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nipulating HTM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96" name="Content Placeholder 3" descr=""/>
          <p:cNvPicPr/>
          <p:nvPr/>
        </p:nvPicPr>
        <p:blipFill>
          <a:blip r:embed="rId1"/>
          <a:stretch/>
        </p:blipFill>
        <p:spPr>
          <a:xfrm>
            <a:off x="554040" y="2139840"/>
            <a:ext cx="7900920" cy="21765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"/>
          <p:cNvSpPr/>
          <p:nvPr/>
        </p:nvSpPr>
        <p:spPr>
          <a:xfrm>
            <a:off x="874440" y="6063120"/>
            <a:ext cx="732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a full jQuery HTML reference, please see jQuery HTML Methods Refer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7f8fd"/>
                </a:solidFill>
                <a:latin typeface="Franklin Gothic Book"/>
              </a:rPr>
              <a:t>Design Techniques for Mobile Web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olumn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floats, tables, fr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ve page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ve heading ta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e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ve alt text for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unneeded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igation in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p to Content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yper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to Top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yper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304920" y="5638680"/>
            <a:ext cx="7848360" cy="703800"/>
          </a:xfrm>
          <a:prstGeom prst="rect">
            <a:avLst/>
          </a:prstGeom>
          <a:solidFill>
            <a:srgbClr val="ffbe5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495c"/>
                </a:solidFill>
                <a:latin typeface="Times New Roman"/>
                <a:ea typeface="Arial"/>
              </a:rPr>
              <a:t>Notice the overlap between these techniques </a:t>
            </a:r>
            <a:br>
              <a:rPr sz="2000"/>
            </a:br>
            <a:r>
              <a:rPr b="0" i="1" lang="en-US" sz="2000" spc="-1" strike="noStrike">
                <a:solidFill>
                  <a:srgbClr val="03495c"/>
                </a:solidFill>
                <a:latin typeface="Times New Roman"/>
                <a:ea typeface="Arial"/>
              </a:rPr>
              <a:t>and designing to provide for accessibili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 10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884160" y="1895400"/>
            <a:ext cx="6172200" cy="265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#btnReplace").click(function(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("#lemon").html("Lollipop soufflé i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m tootsie roll donut...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TextBox 4"/>
          <p:cNvGrpSpPr/>
          <p:nvPr/>
        </p:nvGrpSpPr>
        <p:grpSpPr>
          <a:xfrm>
            <a:off x="4711680" y="4254480"/>
            <a:ext cx="3030480" cy="1195560"/>
            <a:chOff x="4711680" y="4254480"/>
            <a:chExt cx="3030480" cy="1195560"/>
          </a:xfrm>
        </p:grpSpPr>
        <p:pic>
          <p:nvPicPr>
            <p:cNvPr id="401" name="TextBox 4" descr=""/>
            <p:cNvPicPr/>
            <p:nvPr/>
          </p:nvPicPr>
          <p:blipFill>
            <a:blip r:embed="rId1"/>
            <a:stretch/>
          </p:blipFill>
          <p:spPr>
            <a:xfrm>
              <a:off x="4711680" y="4254480"/>
              <a:ext cx="303048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4800600" y="4343400"/>
              <a:ext cx="2849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place text in paragraph lemon when btnReplace is clicked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jax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jQuery $.post() method loads data from the server using an HTTP POST reques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.post(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URL, {data}, function(data){…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.post("myScript.php", {name:txt}, function(result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    $("span").html(result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  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rcRect l="0" t="0" r="0" b="13332"/>
          <a:stretch/>
        </p:blipFill>
        <p:spPr>
          <a:xfrm>
            <a:off x="5460840" y="4241880"/>
            <a:ext cx="3238560" cy="231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06" name="TextBox 4"/>
          <p:cNvSpPr/>
          <p:nvPr/>
        </p:nvSpPr>
        <p:spPr>
          <a:xfrm>
            <a:off x="7656840" y="390384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jax.p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762120" y="4249800"/>
          <a:ext cx="4363920" cy="1906560"/>
        </p:xfrm>
        <a:graphic>
          <a:graphicData uri="http://schemas.openxmlformats.org/drawingml/2006/table">
            <a:tbl>
              <a:tblPr/>
              <a:tblGrid>
                <a:gridCol w="1204920"/>
                <a:gridCol w="3159000"/>
              </a:tblGrid>
              <a:tr h="216000"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4320">
                      <a:solidFill>
                        <a:srgbClr val="555555"/>
                      </a:solidFill>
                    </a:lnL>
                    <a:lnR w="4320">
                      <a:solidFill>
                        <a:srgbClr val="555555"/>
                      </a:solidFill>
                    </a:lnR>
                    <a:lnT w="4320">
                      <a:solidFill>
                        <a:srgbClr val="555555"/>
                      </a:solidFill>
                    </a:lnT>
                    <a:lnB w="4320">
                      <a:solidFill>
                        <a:srgbClr val="d4d4d4"/>
                      </a:solidFill>
                    </a:lnB>
                    <a:solidFill>
                      <a:srgbClr val="555555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4320">
                      <a:solidFill>
                        <a:srgbClr val="555555"/>
                      </a:solidFill>
                    </a:lnL>
                    <a:lnR w="4320">
                      <a:solidFill>
                        <a:srgbClr val="555555"/>
                      </a:solidFill>
                    </a:lnR>
                    <a:lnT w="4320">
                      <a:solidFill>
                        <a:srgbClr val="555555"/>
                      </a:solidFill>
                    </a:lnT>
                    <a:lnB w="4320">
                      <a:solidFill>
                        <a:srgbClr val="d4d4d4"/>
                      </a:solidFill>
                    </a:lnB>
                    <a:solidFill>
                      <a:srgbClr val="555555"/>
                    </a:solidFill>
                  </a:tcPr>
                </a:tc>
              </a:tr>
              <a:tr h="441720">
                <a:tc>
                  <a:txBody>
                    <a:bodyPr lIns="27000" rIns="27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R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7000" marR="27000">
                    <a:lnL w="4320">
                      <a:solidFill>
                        <a:srgbClr val="d4d4d4"/>
                      </a:solidFill>
                    </a:lnL>
                    <a:lnR w="4320">
                      <a:solidFill>
                        <a:srgbClr val="d4d4d4"/>
                      </a:solidFill>
                    </a:lnR>
                    <a:lnT w="4320">
                      <a:solidFill>
                        <a:srgbClr val="d4d4d4"/>
                      </a:solidFill>
                    </a:lnT>
                    <a:lnB w="4320">
                      <a:solidFill>
                        <a:srgbClr val="d4d4d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d. Specifies the url to send the request t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7000" marR="27000">
                    <a:lnL w="4320">
                      <a:solidFill>
                        <a:srgbClr val="d4d4d4"/>
                      </a:solidFill>
                    </a:lnL>
                    <a:lnR w="4320">
                      <a:solidFill>
                        <a:srgbClr val="d4d4d4"/>
                      </a:solidFill>
                    </a:lnR>
                    <a:lnT w="4320">
                      <a:solidFill>
                        <a:srgbClr val="d4d4d4"/>
                      </a:solidFill>
                    </a:lnT>
                    <a:lnB w="4320">
                      <a:solidFill>
                        <a:srgbClr val="d4d4d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720">
                <a:tc>
                  <a:txBody>
                    <a:bodyPr lIns="27000" rIns="27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7000" marR="27000">
                    <a:lnL w="4320">
                      <a:solidFill>
                        <a:srgbClr val="d4d4d4"/>
                      </a:solidFill>
                    </a:lnL>
                    <a:lnR w="4320">
                      <a:solidFill>
                        <a:srgbClr val="d4d4d4"/>
                      </a:solidFill>
                    </a:lnR>
                    <a:lnT w="4320">
                      <a:solidFill>
                        <a:srgbClr val="d4d4d4"/>
                      </a:solidFill>
                    </a:lnT>
                    <a:lnB w="4320">
                      <a:solidFill>
                        <a:srgbClr val="d4d4d4"/>
                      </a:solidFill>
                    </a:lnB>
                    <a:solidFill>
                      <a:srgbClr val="f6f4f0"/>
                    </a:solidFill>
                  </a:tcPr>
                </a:tc>
                <a:tc>
                  <a:txBody>
                    <a:bodyPr lIns="27000" rIns="27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tional. Specifies data to send to the server along with the reques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7000" marR="27000">
                    <a:lnL w="4320">
                      <a:solidFill>
                        <a:srgbClr val="d4d4d4"/>
                      </a:solidFill>
                    </a:lnL>
                    <a:lnR w="4320">
                      <a:solidFill>
                        <a:srgbClr val="d4d4d4"/>
                      </a:solidFill>
                    </a:lnR>
                    <a:lnT w="4320">
                      <a:solidFill>
                        <a:srgbClr val="d4d4d4"/>
                      </a:solidFill>
                    </a:lnT>
                    <a:lnB w="4320">
                      <a:solidFill>
                        <a:srgbClr val="d4d4d4"/>
                      </a:solidFill>
                    </a:lnB>
                    <a:solidFill>
                      <a:srgbClr val="f6f4f0"/>
                    </a:solidFill>
                  </a:tcPr>
                </a:tc>
              </a:tr>
              <a:tr h="807120">
                <a:tc>
                  <a:txBody>
                    <a:bodyPr lIns="27000" rIns="27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ction(dat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7000" marR="27000">
                    <a:lnL w="4320">
                      <a:solidFill>
                        <a:srgbClr val="d4d4d4"/>
                      </a:solidFill>
                    </a:lnL>
                    <a:lnR w="4320">
                      <a:solidFill>
                        <a:srgbClr val="d4d4d4"/>
                      </a:solidFill>
                    </a:lnR>
                    <a:lnT w="4320">
                      <a:solidFill>
                        <a:srgbClr val="d4d4d4"/>
                      </a:solidFill>
                    </a:lnT>
                    <a:lnB w="4320">
                      <a:solidFill>
                        <a:srgbClr val="d4d4d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tional. Specifies a function to run if the request succeeds.</a:t>
                      </a:r>
                      <a:br>
                        <a:rPr sz="1200"/>
                      </a:b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a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- contains the resulting data from the reque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7000" marR="27000">
                    <a:lnL w="4320">
                      <a:solidFill>
                        <a:srgbClr val="d4d4d4"/>
                      </a:solidFill>
                    </a:lnL>
                    <a:lnR w="4320">
                      <a:solidFill>
                        <a:srgbClr val="d4d4d4"/>
                      </a:solidFill>
                    </a:lnR>
                    <a:lnT w="4320">
                      <a:solidFill>
                        <a:srgbClr val="d4d4d4"/>
                      </a:solidFill>
                    </a:lnT>
                    <a:lnB w="4320">
                      <a:solidFill>
                        <a:srgbClr val="d4d4d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Rectangle 6"/>
          <p:cNvSpPr/>
          <p:nvPr/>
        </p:nvSpPr>
        <p:spPr>
          <a:xfrm>
            <a:off x="685800" y="62276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w3schools.com/jquery/ajax_post.a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jax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10" name="Rectangle 3"/>
          <p:cNvGrpSpPr/>
          <p:nvPr/>
        </p:nvGrpSpPr>
        <p:grpSpPr>
          <a:xfrm>
            <a:off x="365040" y="1182600"/>
            <a:ext cx="8364600" cy="7501320"/>
            <a:chOff x="365040" y="1182600"/>
            <a:chExt cx="8364600" cy="7501320"/>
          </a:xfrm>
        </p:grpSpPr>
        <p:pic>
          <p:nvPicPr>
            <p:cNvPr id="411" name="Rectangle 3" descr=""/>
            <p:cNvPicPr/>
            <p:nvPr/>
          </p:nvPicPr>
          <p:blipFill>
            <a:blip r:embed="rId1"/>
            <a:stretch/>
          </p:blipFill>
          <p:spPr>
            <a:xfrm>
              <a:off x="365040" y="1182600"/>
              <a:ext cx="8364600" cy="554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57200" y="1274760"/>
              <a:ext cx="8178840" cy="74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&lt;?ph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$id = $_POST['id']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ysql_connect("localhost", "omuser", "omuser") or die("Error connecting"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ysql_select_db("om") or die("Error selecting DB"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$query = "SELECT * FROM items WHERE item_id = $id"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$result = mysql_query($query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(mysql_num_rows($result) == 0) {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cho "Product ID $id not found."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turn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$row = mysql_fetch_array($result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cho "&lt;strong&gt;Item ID:&lt;/strong&gt; {$row['item_id']}&lt;br&gt;"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cho "&lt;strong&gt;Title:&lt;/strong&gt; {$row['title']}&lt;br&gt;"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cho "&lt;strong&gt;Artist:&lt;/strong&gt; {$row['artist']}&lt;br&gt;"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cho "&lt;strong&gt;Price:&lt;/strong&gt; {$row['unit_price']}&lt;br&gt;"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Left Arrow Callout 4"/>
          <p:cNvSpPr/>
          <p:nvPr/>
        </p:nvSpPr>
        <p:spPr>
          <a:xfrm>
            <a:off x="4546440" y="1863720"/>
            <a:ext cx="4267440" cy="304920"/>
          </a:xfrm>
          <a:prstGeom prst="leftArrowCallout">
            <a:avLst>
              <a:gd name="adj1" fmla="val 25002"/>
              <a:gd name="adj2" fmla="val 25000"/>
              <a:gd name="adj3" fmla="val 25010"/>
              <a:gd name="adj4" fmla="val 74882"/>
            </a:avLst>
          </a:prstGeom>
          <a:solidFill>
            <a:srgbClr val="ffbe5f"/>
          </a:solidFill>
          <a:ln w="19080">
            <a:solidFill>
              <a:srgbClr val="bc8b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 this from the Ajax ca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6462360" y="94932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_product.p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jax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16" name="Rectangle 3"/>
          <p:cNvGrpSpPr/>
          <p:nvPr/>
        </p:nvGrpSpPr>
        <p:grpSpPr>
          <a:xfrm>
            <a:off x="669960" y="1755720"/>
            <a:ext cx="4298760" cy="6771240"/>
            <a:chOff x="669960" y="1755720"/>
            <a:chExt cx="4298760" cy="6771240"/>
          </a:xfrm>
        </p:grpSpPr>
        <p:pic>
          <p:nvPicPr>
            <p:cNvPr id="417" name="Rectangle 3" descr=""/>
            <p:cNvPicPr/>
            <p:nvPr/>
          </p:nvPicPr>
          <p:blipFill>
            <a:blip r:embed="rId1"/>
            <a:stretch/>
          </p:blipFill>
          <p:spPr>
            <a:xfrm>
              <a:off x="669960" y="1755720"/>
              <a:ext cx="42987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849320"/>
              <a:ext cx="4114800" cy="66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$('#show').click(function(){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ar prodId = $('#id').val(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$.post(</a:t>
              </a: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"show_product.php"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{id:prodId}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unction(result) {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$('#detail').html(result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}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9" name="Left Arrow Callout 4"/>
          <p:cNvSpPr/>
          <p:nvPr/>
        </p:nvSpPr>
        <p:spPr>
          <a:xfrm>
            <a:off x="4368960" y="1873080"/>
            <a:ext cx="4267080" cy="354240"/>
          </a:xfrm>
          <a:prstGeom prst="leftArrowCallout">
            <a:avLst>
              <a:gd name="adj1" fmla="val 25002"/>
              <a:gd name="adj2" fmla="val 25000"/>
              <a:gd name="adj3" fmla="val 24984"/>
              <a:gd name="adj4" fmla="val 74882"/>
            </a:avLst>
          </a:prstGeom>
          <a:solidFill>
            <a:srgbClr val="667dd0"/>
          </a:solidFill>
          <a:ln w="19080">
            <a:solidFill>
              <a:srgbClr val="bc8b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n the button is click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eft Arrow Callout 7"/>
          <p:cNvSpPr/>
          <p:nvPr/>
        </p:nvSpPr>
        <p:spPr>
          <a:xfrm>
            <a:off x="4368960" y="2419200"/>
            <a:ext cx="4267080" cy="354240"/>
          </a:xfrm>
          <a:prstGeom prst="leftArrowCallout">
            <a:avLst>
              <a:gd name="adj1" fmla="val 25002"/>
              <a:gd name="adj2" fmla="val 25000"/>
              <a:gd name="adj3" fmla="val 24984"/>
              <a:gd name="adj4" fmla="val 74882"/>
            </a:avLst>
          </a:prstGeom>
          <a:solidFill>
            <a:srgbClr val="526cca"/>
          </a:solidFill>
          <a:ln w="19080">
            <a:solidFill>
              <a:srgbClr val="bc8b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 the text box val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eft Arrow Callout 8"/>
          <p:cNvSpPr/>
          <p:nvPr/>
        </p:nvSpPr>
        <p:spPr>
          <a:xfrm>
            <a:off x="4368960" y="3516480"/>
            <a:ext cx="4267080" cy="352080"/>
          </a:xfrm>
          <a:prstGeom prst="leftArrowCallout">
            <a:avLst>
              <a:gd name="adj1" fmla="val 25002"/>
              <a:gd name="adj2" fmla="val 25000"/>
              <a:gd name="adj3" fmla="val 25025"/>
              <a:gd name="adj4" fmla="val 74882"/>
            </a:avLst>
          </a:prstGeom>
          <a:solidFill>
            <a:srgbClr val="30479c"/>
          </a:solidFill>
          <a:ln w="19080">
            <a:solidFill>
              <a:srgbClr val="bc8b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 of the PHP 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eft Arrow Callout 9"/>
          <p:cNvSpPr/>
          <p:nvPr/>
        </p:nvSpPr>
        <p:spPr>
          <a:xfrm>
            <a:off x="3200400" y="4067280"/>
            <a:ext cx="5435640" cy="352440"/>
          </a:xfrm>
          <a:prstGeom prst="leftArrowCallout">
            <a:avLst>
              <a:gd name="adj1" fmla="val 25002"/>
              <a:gd name="adj2" fmla="val 25000"/>
              <a:gd name="adj3" fmla="val 24991"/>
              <a:gd name="adj4" fmla="val 58834"/>
            </a:avLst>
          </a:prstGeom>
          <a:solidFill>
            <a:srgbClr val="253779"/>
          </a:solidFill>
          <a:ln w="19080">
            <a:solidFill>
              <a:srgbClr val="bc8b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key/value to be pas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eft Arrow Callout 10"/>
          <p:cNvSpPr/>
          <p:nvPr/>
        </p:nvSpPr>
        <p:spPr>
          <a:xfrm>
            <a:off x="4368960" y="4800600"/>
            <a:ext cx="4267080" cy="533520"/>
          </a:xfrm>
          <a:prstGeom prst="leftArrowCallout">
            <a:avLst>
              <a:gd name="adj1" fmla="val 25002"/>
              <a:gd name="adj2" fmla="val 25000"/>
              <a:gd name="adj3" fmla="val 24994"/>
              <a:gd name="adj4" fmla="val 74882"/>
            </a:avLst>
          </a:prstGeom>
          <a:solidFill>
            <a:srgbClr val="1c2a5e"/>
          </a:solidFill>
          <a:ln w="19080">
            <a:solidFill>
              <a:srgbClr val="bc8b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date the "detail" d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the output of the PHP 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eft Arrow Callout 11"/>
          <p:cNvSpPr/>
          <p:nvPr/>
        </p:nvSpPr>
        <p:spPr>
          <a:xfrm>
            <a:off x="2692440" y="2965320"/>
            <a:ext cx="5943600" cy="354240"/>
          </a:xfrm>
          <a:prstGeom prst="leftArrowCallout">
            <a:avLst>
              <a:gd name="adj1" fmla="val 25002"/>
              <a:gd name="adj2" fmla="val 25000"/>
              <a:gd name="adj3" fmla="val 25012"/>
              <a:gd name="adj4" fmla="val 53815"/>
            </a:avLst>
          </a:prstGeom>
          <a:solidFill>
            <a:srgbClr val="3954b9"/>
          </a:solidFill>
          <a:ln w="19080">
            <a:solidFill>
              <a:srgbClr val="bc8b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jax P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3812760" y="15238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jax.p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Resourc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ttp://jquery.com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ttp://www.w3schools.com/jque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ttp://jqueryui.com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351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7f8fd"/>
                </a:solidFill>
                <a:latin typeface="Franklin Gothic Book"/>
              </a:rPr>
              <a:t>Design Techniques for Mobile Web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908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ngle column de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void floats, tables, fra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ptive page tit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ptive head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ize im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ptive alt text for im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minate unneeded im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vigation in l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 or percentage font size un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font typefa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 contrast between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xt and background color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ip to Content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hyperlin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 to Top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hyperlin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fbe5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Figure7"/>
          <p:cNvPicPr/>
          <p:nvPr/>
        </p:nvPicPr>
        <p:blipFill>
          <a:blip r:embed="rId1"/>
          <a:stretch/>
        </p:blipFill>
        <p:spPr>
          <a:xfrm>
            <a:off x="7472520" y="1117440"/>
            <a:ext cx="1641240" cy="2768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73" name="Picture 6" descr="Figure7"/>
          <p:cNvPicPr/>
          <p:nvPr/>
        </p:nvPicPr>
        <p:blipFill>
          <a:blip r:embed="rId2"/>
          <a:stretch/>
        </p:blipFill>
        <p:spPr>
          <a:xfrm>
            <a:off x="5334120" y="1066680"/>
            <a:ext cx="1725480" cy="287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74" name="TextBox 3"/>
          <p:cNvSpPr/>
          <p:nvPr/>
        </p:nvSpPr>
        <p:spPr>
          <a:xfrm>
            <a:off x="6629400" y="4495680"/>
            <a:ext cx="2324160" cy="1923480"/>
          </a:xfrm>
          <a:prstGeom prst="rect">
            <a:avLst/>
          </a:prstGeom>
          <a:solidFill>
            <a:srgbClr val="ffbe5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otice the overlap between these techniques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nd designing to provide for accessibili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0" y="5105520"/>
            <a:ext cx="9220320" cy="895320"/>
          </a:xfrm>
          <a:prstGeom prst="rect">
            <a:avLst/>
          </a:prstGeom>
          <a:solidFill>
            <a:srgbClr val="ffbe5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7960" y="-241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Viewport Meta Ta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1920" y="837720"/>
            <a:ext cx="8153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ault action for most mobile device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s to zoom out and scale the web p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2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2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ewport Meta Ta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-20736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as an Apple extensio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configure display on mobile de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-20736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gures width and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itial scale of browser viewport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meta name="viewport"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="width=device-width, initial-scale=1.0"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2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8020-9571-4178-8AAD-58349346AAE9}" type="slidenum"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Picture 2" descr="Figure7"/>
          <p:cNvPicPr/>
          <p:nvPr/>
        </p:nvPicPr>
        <p:blipFill>
          <a:blip r:embed="rId1"/>
          <a:stretch/>
        </p:blipFill>
        <p:spPr>
          <a:xfrm>
            <a:off x="7467480" y="380880"/>
            <a:ext cx="1317600" cy="2190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Figure7"/>
          <p:cNvPicPr/>
          <p:nvPr/>
        </p:nvPicPr>
        <p:blipFill>
          <a:blip r:embed="rId2"/>
          <a:stretch/>
        </p:blipFill>
        <p:spPr>
          <a:xfrm>
            <a:off x="7467480" y="2604960"/>
            <a:ext cx="1317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152280" y="4343400"/>
            <a:ext cx="8251920" cy="380880"/>
          </a:xfrm>
          <a:prstGeom prst="rect">
            <a:avLst/>
          </a:prstGeom>
          <a:solidFill>
            <a:srgbClr val="ffbe5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1"/>
          <p:cNvSpPr/>
          <p:nvPr/>
        </p:nvSpPr>
        <p:spPr>
          <a:xfrm>
            <a:off x="152280" y="2057400"/>
            <a:ext cx="8001000" cy="304920"/>
          </a:xfrm>
          <a:prstGeom prst="rect">
            <a:avLst/>
          </a:prstGeom>
          <a:solidFill>
            <a:srgbClr val="ffbe5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7f8fd"/>
                </a:solidFill>
                <a:latin typeface="Franklin Gothic Book"/>
              </a:rPr>
              <a:t>Telephone &amp; Text Message Hyperlink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14475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lephon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href="tel:888-555-5555"&gt;Call 888-555-5555&lt;/a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mobile browsers will initiate a phone call when the hyperlink is click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MS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 href="sms:888-555-5555"&gt;Text 888-555-5555&lt;/a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mobile browsers will initiate a text message to the phone number when the hyperlink is click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9230-CD57-40C3-A812-258BA2AB072B}" type="slidenum"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6" descr="C:\Users\DrMorris\AppData\Local\Microsoft\Windows\Temporary Internet Files\Content.IE5\G6GRM6G6\MP910216413[1].png"/>
          <p:cNvPicPr/>
          <p:nvPr/>
        </p:nvPicPr>
        <p:blipFill>
          <a:blip r:embed="rId1"/>
          <a:stretch/>
        </p:blipFill>
        <p:spPr>
          <a:xfrm>
            <a:off x="7626240" y="5473800"/>
            <a:ext cx="16336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sponsive Web Desig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59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rm coined by Ethan Marcot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ressively enhancing a web page for different viewing contex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chniqu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uid Layo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SS3 Media Que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exible Im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EB12-FF8F-4846-9328-5601586AC30B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432320" y="3429000"/>
            <a:ext cx="47005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271440" y="5029200"/>
            <a:ext cx="7348680" cy="1676520"/>
          </a:xfrm>
          <a:prstGeom prst="rect">
            <a:avLst/>
          </a:prstGeom>
          <a:solidFill>
            <a:srgbClr val="ffbe5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271440" y="3657600"/>
            <a:ext cx="7348680" cy="863640"/>
          </a:xfrm>
          <a:prstGeom prst="rect">
            <a:avLst/>
          </a:prstGeom>
          <a:solidFill>
            <a:srgbClr val="ffbe5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82480" y="-33840"/>
            <a:ext cx="7467840" cy="8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SS3 Media Queri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761760"/>
            <a:ext cx="847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46960" indent="-225720">
              <a:spcBef>
                <a:spcPts val="799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a Que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25880" indent="-160920">
              <a:spcBef>
                <a:spcPts val="601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the capability of the mobil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ce, such as screen re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880" indent="-160920">
              <a:spcBef>
                <a:spcPts val="601"/>
              </a:spcBef>
              <a:buClr>
                <a:srgbClr val="ffbe5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 the browser to styles configu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lly for those capabilit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2572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nk Element Exampl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6960" indent="-225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link href="lighthousemobile.css"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media="only screen and (max-device-width: 480px)"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2572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SS Exampl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6960" indent="-225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@media only screen and (max-width: 480px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25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 { background-image: url(mobile.gif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25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25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25720">
              <a:lnSpc>
                <a:spcPct val="100000"/>
              </a:lnSpc>
              <a:spcBef>
                <a:spcPts val="60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DF0B-B1A2-4A18-B292-F70530DAF0A4}" type="slidenum"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2" descr="Figure7"/>
          <p:cNvPicPr/>
          <p:nvPr/>
        </p:nvPicPr>
        <p:blipFill>
          <a:blip r:embed="rId1"/>
          <a:stretch/>
        </p:blipFill>
        <p:spPr>
          <a:xfrm>
            <a:off x="6858000" y="838080"/>
            <a:ext cx="17254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lexible Imag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480" y="2819160"/>
            <a:ext cx="74678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dit HTML: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move height and width attribu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be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S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g { max-width: 100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igh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auto; }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6708-A7F5-4C68-9B14-D897D7E1BAD6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609480" y="4419720"/>
            <a:ext cx="4724640" cy="1143000"/>
          </a:xfrm>
          <a:prstGeom prst="rect">
            <a:avLst/>
          </a:prstGeom>
          <a:solidFill>
            <a:srgbClr val="ffbe5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529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23:17:55Z</dcterms:created>
  <dc:creator>krissecor@carling.onmicrosoft.com</dc:creator>
  <dc:description/>
  <dc:language>en-US</dc:language>
  <cp:lastModifiedBy>krissecor@carling.onmicrosoft.com</cp:lastModifiedBy>
  <dcterms:modified xsi:type="dcterms:W3CDTF">2015-11-24T23:19:20Z</dcterms:modified>
  <cp:revision>1</cp:revision>
  <dc:subject>Chapter 8</dc:subject>
  <dc:title>Mobile Web Design Best Practices</dc:title>
</cp:coreProperties>
</file>