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1167-774A-4092-82EC-259618A9F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CD08-032E-4ED0-9A41-086051AE7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8201-0F26-416D-B6E4-E11078466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3360-22D8-4582-B69C-0BB52E87D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30B0F-5AE1-4638-8200-00850443C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AB779-843F-4124-A383-596CCDF02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C33EF-81DD-4F95-BC5D-4EA53F889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9A9E5-F696-4A79-9156-FC47CF7B6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47B56-4EDF-41DD-B7B5-0BAF186E6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AE364-2A84-41D7-8766-5D05E3FF5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6F187-FCC7-4D6C-9E81-D8BB15B1E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4605-8D2A-4698-95FB-463A53E94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A8F17-F58C-413C-857A-8DBA437C4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11E9D-F754-474B-A21C-5B441EEFC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D5772-055D-45F0-B2D1-288772E9E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91C02-BFD0-4C09-830F-48C20FA25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F3490-E551-44CB-9B32-093FABCAD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D555-B1A6-4221-9EBB-D091FCC2C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653B-1766-43FF-9E43-BB1CF756E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8455-1D5E-45DC-8529-5C6599BE9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03AE-0B85-4C85-AF47-B75FC6746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B67B-406A-4D3E-AF1B-8D0D39832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97DF-68DD-47B7-83DB-184301040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BE4D-D05B-486A-87F0-4173F3330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6699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6699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6699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33927-F496-4486-95E7-97E2A489EC30}" type="slidenum">
              <a:rPr b="0" lang="en-US" sz="14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CD621-A65C-420B-BB2A-85CA268FD07C}" type="slidenum">
              <a:rPr b="0" lang="en-US" sz="14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mm214.com/mm3303materials/mm3303week1/1syntax/body.html" TargetMode="Externa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MM3303 Week 1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This course will be: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1.Javascript in the first 5-7 weeks (hitting all the course competencies)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2.Server sided programming in weeks 7-11 (Depending on our progress)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3.Enough to prepare you for Advanced Web Programming and get you freelancing immediately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Statements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Programs ‘flow’ from statement to statement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Simple statement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Assignment (setting the value of a variable)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calls to procedures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Certain statements are compound statements, with the statements ‘inside’ operating depending on certain rule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Loops, conditionals (If, switch)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Punctuation (brackets, semicolons) can be tricky!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We can write to the page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html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head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title&gt;My Javascript Page&lt;/title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/head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body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script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document.write("Welcome to my world!!!")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/script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/body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/html&gt;</a:t>
            </a: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Learn More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…</a:t>
            </a: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Or we can write html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html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head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title&gt;My Javascript Page&lt;/title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/head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body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Hello!!!&lt;br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script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document.write("Welcome to my world!!!&lt;br&gt;")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/script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Enjoy your stay...&lt;br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/body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/html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3 types of boxes to get data from user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Alert Box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Confirm Box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Prompt Box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Alert Box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Arial"/>
              </a:rPr>
              <a:t>&lt;html&gt;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Arial"/>
              </a:rPr>
              <a:t>&lt;head&gt;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Arial"/>
              </a:rPr>
              <a:t>&lt;script language="JavaScript"&gt;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Arial"/>
              </a:rPr>
              <a:t>&lt;!--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Arial"/>
              </a:rPr>
              <a:t>var msgText = "You clicked the link.";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Arial"/>
              </a:rPr>
              <a:t>// --&gt;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Arial"/>
              </a:rPr>
              <a:t>&lt;/script&gt;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Arial"/>
              </a:rPr>
              <a:t>&lt;head&gt;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Arial"/>
              </a:rPr>
              <a:t>&lt;body&gt;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Arial"/>
              </a:rPr>
              <a:t>&lt;a href="javascript:alert(msgText);"&gt;Click 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6699"/>
                </a:solidFill>
                <a:latin typeface="Arial"/>
              </a:rPr>
              <a:t>this link&lt;/a&gt; to see an alert box.&lt;/p&gt; 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6699"/>
                </a:solidFill>
                <a:latin typeface="Arial"/>
              </a:rPr>
              <a:t>&lt;/body&gt;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6699"/>
                </a:solidFill>
                <a:latin typeface="Arial"/>
              </a:rPr>
              <a:t>&lt;/html&gt;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es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Confirm Box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&lt;html&gt;</a:t>
            </a:r>
            <a:endParaRPr b="0" lang="en-US" sz="1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&lt;head&gt;</a:t>
            </a:r>
            <a:endParaRPr b="0" lang="en-US" sz="1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&lt;script language="JavaScript"&gt;</a:t>
            </a:r>
            <a:endParaRPr b="0" lang="en-US" sz="1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&lt;!--</a:t>
            </a:r>
            <a:endParaRPr b="0" lang="en-US" sz="1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function confirmChoice() {</a:t>
            </a:r>
            <a:endParaRPr b="0" lang="en-US" sz="1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msgQuestion = "Do you want to return to the class page now?";</a:t>
            </a:r>
            <a:endParaRPr b="0" lang="en-US" sz="1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userResponse = confirm(msgQuestion);</a:t>
            </a:r>
            <a:endParaRPr b="0" lang="en-US" sz="1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if (userResponse == 1) {</a:t>
            </a:r>
            <a:endParaRPr b="0" lang="en-US" sz="1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location = "http://mm214.com/mm3303.html";</a:t>
            </a:r>
            <a:endParaRPr b="0" lang="en-US" sz="1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} else {</a:t>
            </a:r>
            <a:endParaRPr b="0" lang="en-US" sz="1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return;</a:t>
            </a:r>
            <a:endParaRPr b="0" lang="en-US" sz="1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} </a:t>
            </a:r>
            <a:endParaRPr b="0" lang="en-US" sz="1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// --&gt;</a:t>
            </a:r>
            <a:endParaRPr b="0" lang="en-US" sz="1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&lt;/script&gt;</a:t>
            </a:r>
            <a:endParaRPr b="0" lang="en-US" sz="1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&lt;head&gt; </a:t>
            </a:r>
            <a:endParaRPr b="0" lang="en-US" sz="1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&lt;body&gt;</a:t>
            </a:r>
            <a:endParaRPr b="0" lang="en-US" sz="1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&lt;a href="javascript:confirmChoice();"&gt;click this link&lt;/a&gt; </a:t>
            </a:r>
            <a:endParaRPr b="0" lang="en-US" sz="1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to see a confirm box that takes you to another page if you choose "OK."&lt;/p&gt; </a:t>
            </a:r>
            <a:endParaRPr b="0" lang="en-US" sz="1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&lt;/a&gt;</a:t>
            </a:r>
            <a:endParaRPr b="0" lang="en-US" sz="1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&lt;/body&gt;</a:t>
            </a:r>
            <a:endParaRPr b="0" lang="en-US" sz="1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&lt;/html&gt;</a:t>
            </a:r>
            <a:endParaRPr b="0" lang="en-US" sz="1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es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Prompt Box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var requestMsg = "Type your name: "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function promptSequence() {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userInput1 = prompt(requestMsg)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requestMsg = "Type the name of your favorite food: "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userInput2 = prompt(requestMsg)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alert(userInput1 + " loves " + userInput2 + "!")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a href="javascript:promptSequence();"&gt;Try 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it now!&lt;/a&gt;&lt;/p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es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event example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the code: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Arial"/>
              </a:rPr>
              <a:t>&lt;a href="http://www.mm214.com" onclick="alert('I said don\'t do that!!!');return false;"&gt; Don't click here&lt;/a&gt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Arial"/>
              </a:rPr>
              <a:t>onclick</a:t>
            </a: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 is an </a:t>
            </a:r>
            <a:r>
              <a:rPr b="0" i="1" lang="en-US" sz="2400" spc="-1" strike="noStrike">
                <a:solidFill>
                  <a:srgbClr val="006699"/>
                </a:solidFill>
                <a:latin typeface="Arial"/>
              </a:rPr>
              <a:t>event</a:t>
            </a: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It is the event that occurs when the user clicks the link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Arial"/>
              </a:rPr>
              <a:t>alert</a:t>
            </a: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 is a </a:t>
            </a:r>
            <a:r>
              <a:rPr b="0" i="1" lang="en-US" sz="2400" spc="-1" strike="noStrike">
                <a:solidFill>
                  <a:srgbClr val="006699"/>
                </a:solidFill>
                <a:latin typeface="Arial"/>
              </a:rPr>
              <a:t>function</a:t>
            </a: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It takes a single </a:t>
            </a:r>
            <a:r>
              <a:rPr b="0" i="1" lang="en-US" sz="2000" spc="-1" strike="noStrike">
                <a:solidFill>
                  <a:srgbClr val="006699"/>
                </a:solidFill>
                <a:latin typeface="Arial"/>
              </a:rPr>
              <a:t>argument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 which is a string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Events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Events are triggered by user actions or the browser itself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Common User actions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Common events include: onMouseOver, onMouseOut, onClick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These 3 events are mostly commonly used with anchor tags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Others include onFocus, onBlur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Document events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onLoad and onUnLoad are examples of events not triggered by the user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Alert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Arial"/>
              </a:rPr>
              <a:t>alert</a:t>
            </a: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 is used to grab the attention of the user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Syntax: alert(</a:t>
            </a:r>
            <a:r>
              <a:rPr b="0" i="1" lang="en-US" sz="2000" spc="-1" strike="noStrike">
                <a:solidFill>
                  <a:srgbClr val="006699"/>
                </a:solidFill>
                <a:latin typeface="Arial"/>
              </a:rPr>
              <a:t>string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Ex: 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alert(“You have not entered a valid name.”)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Ex. 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alert(“Hello “ + name + “!”)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The look of the alert box is defined by the browser and platform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Gets the users attention but abusing it can easily be abused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What can javascript do?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Completely front-ended…consider it a browser scripter…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It’s an interpreted language which is why we want to put as much as we can in the head tag…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Variables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Declare Variables with </a:t>
            </a: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var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var i</a:t>
            </a: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Not necessary but a good practice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Assign variables with </a:t>
            </a: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var i = 7;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var name = “Eric”;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Variable assignment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Valid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x = 7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y = x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x = y + 10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y = y + 4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var first = “jon”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var last = “doe”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var name = first + “ “ + las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Not Valid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7 = x;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What would this equal?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&lt;html&gt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&lt;head&gt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&lt;title&gt;My Page&lt;/title&gt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&lt;/head&gt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&lt;body&gt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&lt;script&gt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myvalue=2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MyValue=5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result=myvalue+MyValue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document.write(result)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&lt;/script&gt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&lt;/body&gt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&lt;/html&gt;</a:t>
            </a: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es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And this?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&lt;html&gt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&lt;head&gt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&lt;title&gt;My Page&lt;/title&gt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&lt;/head&gt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&lt;body&gt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&lt;script&gt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myvalue=2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myvalue=5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result=myvalue+myvalue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document.write(result)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&lt;/script&gt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&lt;/body&gt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&lt;/html&gt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Test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Objects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Javascript is an object oriented language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Though because it is so ‘loose’ with its typing many don’t think of it as one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Objects are variables with properties and field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These properties may be other variables or function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“.” operator is used to access the methods and properties of an object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Eg:  jared.age = 22;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Objects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Objects are predefined functions for math, text variables, browser controlling, etc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As a matter of fact each and every item placed on a webpage is an object that can be changed, read, or written to by javascript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This is where the real fun starts with javascript: When you start controlling the single objects (form fields, buttons, images, menus, etc. etc.) on the page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That is where you really start taking your pages beyond the average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new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Objects are declared using new.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var jared = new Object()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Properties are not declared with </a:t>
            </a: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var</a:t>
            </a: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.  You just assign them.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- hooter.name = “Hooter Hicks”;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hooter.age = “22”;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Script example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The code: 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&lt;script language="javascript"&gt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&lt;!--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var now = new Date()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var hour = now.getHours()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if (hour &gt; 5 &amp;&amp; hour &lt;= 11) {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document.write("&lt;b&gt;Good Morning!&lt;/b&gt;")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} else if (hour &gt; 11 &amp;&amp; hour &lt;= 17) {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document.write("&lt;b&gt;Good Afternoon!&lt;/b&gt;")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} else {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document.write("&lt;b&gt;Good Evening!&lt;/b&gt;")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//  --&gt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&lt;/script&gt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Script Example part 2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&lt;script&gt; is the tag used to indicate that you are writing javascript and not html.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if</a:t>
            </a: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 and </a:t>
            </a: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else</a:t>
            </a: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 are used to make conditional statements.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document.write</a:t>
            </a: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 tells javascript to insert html into the page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The &lt;script&gt; tag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The main property of &lt;script&gt; is language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Eg. </a:t>
            </a: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&lt;script language =“javascript”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If you don’t specify a language the default is javascript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You can also specify a version number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&lt;script language =“javascript”&gt;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Always close the &lt;script&gt; tag, or your code will not work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Enclose your javascript code within a html comment block &lt;!-- --&gt;, to make the page comaptible with non-javascript browser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What do I use javascript for?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Browser Detection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Detecting the browser used by a visitor at your page. Depending on the browser, another page specifically designed for that browser can then be loaded. 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Comparison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There are several </a:t>
            </a:r>
            <a:r>
              <a:rPr b="0" i="1" lang="en-US" sz="2400" spc="-1" strike="noStrike">
                <a:solidFill>
                  <a:srgbClr val="006699"/>
                </a:solidFill>
                <a:latin typeface="Arial"/>
              </a:rPr>
              <a:t>operators</a:t>
            </a: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 used for making comparisons between variable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The main arithmetic comparitors are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== equal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 less than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 less than or equal to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gt; greater than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gt;= greater than or equal to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!= not equal to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Logic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When making comparison you can also use logic function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amp;&amp; for and 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|| for or (that’s two ‘pipes”; shift backslash)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! For not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Eg: if (age &gt; 18 &amp;&amp; age &lt; 65) {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price  = “$10”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} else {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price = “$6”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More logic example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if  (customer.age &lt;= 18 &amp;&amp;  movie.rating == “R” &amp;&amp; !(customer.parentPresent())) {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document.write(“No admittance”);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}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Variable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… </a:t>
            </a: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is something that holds a value, a value being a string of characters, a number, a set of things (such as strings or numbers).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Examples: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2.50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Art Institute"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"bird.gif"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Courier New"/>
              </a:rPr>
              <a:t>&lt;html&gt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Courier New"/>
              </a:rPr>
              <a:t>&lt;head&gt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Courier New"/>
              </a:rPr>
              <a:t>&lt;title&gt; JavaScript 1 &lt;/title&gt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Courier New"/>
              </a:rPr>
              <a:t>&lt;script language="JavaScript"&gt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Courier New"/>
              </a:rPr>
              <a:t>document.write("&lt;h1&gt;This is it. &lt;/h1&gt;")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6699"/>
                </a:solidFill>
                <a:latin typeface="Courier New"/>
              </a:rPr>
              <a:t>document.write(Date())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Courier New"/>
              </a:rPr>
              <a:t>&lt;/script&gt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Courier New"/>
              </a:rPr>
              <a:t>&lt;/head&gt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Courier New"/>
              </a:rPr>
              <a:t>&lt;body&gt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Courier New"/>
              </a:rPr>
              <a:t>This is the rest of the page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Courier New"/>
              </a:rPr>
              <a:t>&lt;/body&gt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Courier New"/>
              </a:rPr>
              <a:t>&lt;/html&gt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Modified example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Courier New"/>
              </a:rPr>
              <a:t>&lt;html&gt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Courier New"/>
              </a:rPr>
              <a:t>&lt;head&gt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Courier New"/>
              </a:rPr>
              <a:t>&lt;title&gt; JavaScript 1 &lt;/title&gt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Courier New"/>
              </a:rPr>
              <a:t>&lt;script language="JavaScript"&gt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Courier New"/>
              </a:rPr>
              <a:t>var s = "Hello "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Courier New"/>
              </a:rPr>
              <a:t>document.write(s)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6699"/>
                </a:solidFill>
                <a:latin typeface="Courier New"/>
              </a:rPr>
              <a:t>document.write(Date())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Courier New"/>
              </a:rPr>
              <a:t>document.write("&lt;br&gt;&lt;h1&gt;" + s + "&lt;/h1&gt;")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Courier New"/>
              </a:rPr>
              <a:t>&lt;/script&gt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Courier New"/>
              </a:rPr>
              <a:t>&lt;/head&gt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Courier New"/>
              </a:rPr>
              <a:t>&lt;body&gt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Courier New"/>
              </a:rPr>
              <a:t>This is the rest of the page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Courier New"/>
              </a:rPr>
              <a:t>&lt;/body&gt;  &lt;/html&gt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Recap of example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JavaScript code in the head section (NOT within a function definition--example of this later in notes).  This gets </a:t>
            </a:r>
            <a:r>
              <a:rPr b="0" i="1" lang="en-US" sz="2800" spc="-1" strike="noStrike">
                <a:solidFill>
                  <a:srgbClr val="006699"/>
                </a:solidFill>
                <a:latin typeface="Arial"/>
              </a:rPr>
              <a:t>executed </a:t>
            </a: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(done, performed) before anything else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urier New"/>
              </a:rPr>
              <a:t>document.write(</a:t>
            </a:r>
            <a:r>
              <a:rPr b="0" i="1" lang="en-US" sz="2800" spc="-1" strike="noStrike">
                <a:solidFill>
                  <a:srgbClr val="006699"/>
                </a:solidFill>
                <a:latin typeface="Courier New"/>
              </a:rPr>
              <a:t>something</a:t>
            </a:r>
            <a:r>
              <a:rPr b="0" lang="en-US" sz="2800" spc="-1" strike="noStrike">
                <a:solidFill>
                  <a:srgbClr val="006699"/>
                </a:solidFill>
                <a:latin typeface="Courier New"/>
              </a:rPr>
              <a:t>)</a:t>
            </a: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 puts the something at the start of the html page. Try other possibilitie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urier New"/>
              </a:rPr>
              <a:t>document.write("&lt;font color=red&gt; hello &lt;/font&gt;")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Using built-in functions, variables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html&gt; &lt;head&gt; &lt;title&gt; JavaScript 1 &lt;/title&gt; 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script language="JavaScript"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!--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var rawDate = Date()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var mon = rawDate.substr(4,3)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document.write("The month is ")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document.write(mon)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//--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/script&gt; &lt;/head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body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br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This is the rest of the page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/body&gt; &lt;/html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Time for in class assignment #1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3276360" y="2209680"/>
            <a:ext cx="1447560" cy="4572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800600" y="198108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Variable set to what Date() returns.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 flipV="1">
            <a:off x="4114440" y="3124080"/>
            <a:ext cx="1600200" cy="763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791320" y="29718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Extract the month.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t event handler to set status bar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html&gt; &lt;head&gt; &lt;title&gt; JavaScript 1 &lt;/title&gt; &lt;/head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body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This is the rest of the page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a href="http://mm214.com/mm3303materials/" 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onMouseOver="status= 'This is where our stuff will be'; return true;"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Class Materials &lt;/a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/body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/html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Test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5409720" y="3580920"/>
            <a:ext cx="228600" cy="12956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410080" y="5029200"/>
            <a:ext cx="152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Note single quotes inside double quotes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7314840" y="2819520"/>
            <a:ext cx="152280" cy="3808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858000" y="198108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This lets the hyperlink take place.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 flipV="1">
            <a:off x="1447920" y="3504960"/>
            <a:ext cx="761760" cy="20574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828800" y="56386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This is an event.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if test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if statement allows you/the code to check a condition and if the condition is true, do something and if the condition is not true, do something else (or do nothing)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if (condition) { any number of statements}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if (condition) { any number of statements}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lse { any number of statements}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Cookies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Storing information on the visitor's computer, then retrieving this information automatically next time the user visits your page. This technique is called "cookies".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if statement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if 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is used to execute code only is some condition is true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if (age &gt;= 18) {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adult = true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else 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used with if to execute a second statement if the condition is false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if (sex == “male”) {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title = “Mr”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} else {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title = “Ms”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else if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else if </a:t>
            </a: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used for linking several if statement together.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if (phd == true) {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title = “Dr.”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} else if (sex == “male”) {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title = “Mr.”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} else if (sex == “female”) {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title = “Ms.”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} else {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title = “????”;  /* Not male or female! */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Form verification example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Show in two parts: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 verify function written in the head sec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form itself, with the call to verify part of the onSubmit event handler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383400" y="380880"/>
            <a:ext cx="825804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Courier New"/>
              </a:rPr>
              <a:t>&lt;html&gt;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Courier New"/>
              </a:rPr>
              <a:t>&lt;head&gt;&lt;title&gt;Form example &lt;/title&gt;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Courier New"/>
              </a:rPr>
              <a:t>&lt;script language="JavaScript"&gt;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Courier New"/>
              </a:rPr>
              <a:t>function verify(f)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Courier New"/>
              </a:rPr>
              <a:t>if (f.lname.value == null || f.address.value == null)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Courier New"/>
              </a:rPr>
              <a:t>{   alert("Form needs a last name and an address");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6699"/>
                </a:solidFill>
                <a:latin typeface="Courier New"/>
              </a:rPr>
              <a:t>return false;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Courier New"/>
              </a:rPr>
              <a:t>if (f.lname.value == "" || f.address.value == "") 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Courier New"/>
              </a:rPr>
              <a:t>{   alert("Form needs a last name and an address");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6699"/>
                </a:solidFill>
                <a:latin typeface="Courier New"/>
              </a:rPr>
              <a:t>return false;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Courier New"/>
              </a:rPr>
              <a:t>return true;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Courier New"/>
              </a:rPr>
              <a:t>&lt;/script&gt; &lt;/head&gt;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48560" y="530280"/>
            <a:ext cx="726264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Times New Roman"/>
              </a:rPr>
              <a:t>&lt;body&gt;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Times New Roman"/>
              </a:rPr>
              <a:t>&lt;h1&gt; Address Information &lt;/h1&gt; &lt;br&gt;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Times New Roman"/>
              </a:rPr>
              <a:t>&lt;form method=post enctype="text/plain" action="mailto:ks422@fac.aii.edu"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Times New Roman"/>
              </a:rPr>
              <a:t>onSubmit="return verify(this);"&gt;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Times New Roman"/>
              </a:rPr>
              <a:t>First Name: &lt;input type="text" name="fname"&gt; 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Times New Roman"/>
              </a:rPr>
              <a:t>Last Name: &lt;input type="text" name="lname"&gt; &lt;br&gt;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Times New Roman"/>
              </a:rPr>
              <a:t>Street Address: &lt;input type="text" name="address" size=30&gt;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Times New Roman"/>
              </a:rPr>
              <a:t>Town/City: &lt;input type="text" name="city"&gt; 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Times New Roman"/>
              </a:rPr>
              <a:t>State: &lt;select name="state" size=1&gt;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Times New Roman"/>
              </a:rPr>
              <a:t>&lt;option value="NY" selected&gt; New York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Times New Roman"/>
              </a:rPr>
              <a:t>&lt;option value="NJ"&gt; New Jersey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Times New Roman"/>
              </a:rPr>
              <a:t>&lt;option value="CT"&gt; Connecticut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Times New Roman"/>
              </a:rPr>
              <a:t>&lt;option value="PA"&gt; Pennsylvania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Times New Roman"/>
              </a:rPr>
              <a:t>&lt;/select&gt; &lt;br&gt;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Times New Roman"/>
              </a:rPr>
              <a:t>Status: &lt;input type="radio" name="status" value="R"&gt; Returning client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Times New Roman"/>
              </a:rPr>
              <a:t>&lt;input type="radio" name="status" value="N"&gt; New client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Times New Roman"/>
              </a:rPr>
              <a:t>&lt;hr&gt; Thank you &lt;p&gt;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Times New Roman"/>
              </a:rPr>
              <a:t>&lt;input type="submit" value="Send information"&gt;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Times New Roman"/>
              </a:rPr>
              <a:t>&lt;/form&gt; &lt;/body&gt; &lt;/html&gt;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Learning to fish….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Many on-line sites with examples of JavaScript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You do need to review what you find (you don't want to eat anything you hook….)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reate an example that displays: "Class is nearly over" when the time is past 9pm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Browser Control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Opening pages in customized windows, where you specify if the browser's buttons, menu line, status line or whatever should be present. 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And my fav…form validation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Validating inputs to fields before submitting a form.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An example would be validating the entered email address to see if it has an @ in it, since if not, it's not a valid address.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Where to place it…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html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head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title&gt;My Javascript Page&lt;/title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/head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body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script type="text/javascript"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alert("Welcome to my world!!!")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/script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/body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/html&gt;</a:t>
            </a: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99ff"/>
                </a:solidFill>
                <a:uFillTx/>
                <a:latin typeface="Arial"/>
                <a:hlinkClick r:id="rId1"/>
              </a:rPr>
              <a:t>Tes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Or…….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html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head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title&gt;My Javascript Page&lt;/title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script type="text/javascript"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alert("Welcome to my world!!!")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/script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/head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body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/body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/html&gt;</a:t>
            </a: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es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Elements of JavaScript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Typical programming elements: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variables, operators, expressions, statements, definition of function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Connection to Web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built-in functions (e.g., Date())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ocument Object Model = names of ‘things’, properties, methods (e.g., document.write)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vents (e.g., onSubmit, onMouseOver)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9T13:50:02Z</dcterms:created>
  <dc:creator>Kristian Secor</dc:creator>
  <dc:description/>
  <dc:language>en-US</dc:language>
  <cp:lastModifiedBy>Kristian Secor</cp:lastModifiedBy>
  <dcterms:modified xsi:type="dcterms:W3CDTF">2006-07-10T19:13:36Z</dcterms:modified>
  <cp:revision>16</cp:revision>
  <dc:subject/>
  <dc:title>MM3303 Week 1</dc:title>
</cp:coreProperties>
</file>