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0E6-5980-4AD1-8614-C5CD10A7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D20B-9457-46EB-BA24-5812C646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5AF-80B0-4703-B337-86162F2E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67E-3B71-4A36-8B11-8DE7AC55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974D-6E4D-48F6-9BA5-2609C907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B125-02CB-4895-9785-0FDB99D1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5E6B-F55A-4412-AA7D-CFD80273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1CF2-73D0-41AD-BA11-2513EA32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A37FA-E2F4-45C6-AD95-8139EBE1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4F3E-8DB2-49FB-861E-3A40DB24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79C8-BF6B-475B-A9E6-1EB4BA5E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B6A-70F2-478B-A2EA-053E7C65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1F9F-DF84-418C-8DAF-8835404A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D108-E5CB-4CA0-A5F5-5B93C990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0C31-6DEC-4275-8B60-5007BFEC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4253-1377-4A2F-A89B-2C8C1196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62C3-2F3B-4B08-837A-AE6ACF8B5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8B1-DD08-4EA1-919C-E75DD387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962-7AD1-4314-8AC9-A31567D0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587D-DDAA-4AB2-9000-048B83CB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F23B-6549-422E-8A5F-CD7B5C27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014-D85D-4A93-A8EB-4FC885C4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5A6-29C8-4B03-B9A7-027E4D93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B30-1561-4707-BBE9-FD39B53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4C70-E646-4F8E-99CC-78521D09E1D9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78EC-A787-4BA1-87F8-36566CC79FC0}" type="slidenum">
              <a:rPr b="0" lang="en-US" sz="14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m214.com/mm3303materials/mm3303week1/1syntax/body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M3303 Week 1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s course will b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1.Javascript in the first 5-7 weeks (hitting all the course competencie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.Server sided programming in weeks 7-11 (Depending on our progress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3.Enough to prepare you for Advanced Web Programming and get you freelancing immediate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tatem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grams ‘flow’ from statement to stateme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mple stat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ssignment (setting the value of a variable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alls to procedur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ertain statements are compound statements, with the statements ‘inside’ operating depending on certain ru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Loops, conditionals (If, switc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nctuation (brackets, semicolons) can be tricky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e can write to the pag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Mor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 we can write htm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ello!!!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Welcome to my world!!!&lt;br&gt;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njoy your stay...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3 types of boxes to get data from user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ler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irm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mpt Box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var msgText = "You clicked the link."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a href="javascript:alert(msgText);"&gt;Click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this link&lt;/a&gt; to see an alert box.&lt;/p&gt; 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nfirm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function confirmChoice(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msgQuestion = "Do you want to return to the class page now?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userResponse = confirm(msgQuestion)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if (userResponse == 1)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location = "http://mm214.com/mm3303.html"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return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}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// --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head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a href="javascript:confirmChoice();"&gt;click this link&lt;/a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to see a confirm box that takes you to another page if you choose "OK."&lt;/p&gt; 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Prompt Box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equestMsg = "Type your name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unction promptSequence(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1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questMsg = "Type the name of your favorite food: "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rInput2 = prompt(requestMsg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userInput1 + " loves " + userInput2 + "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javascript:promptSequence();"&gt;Tr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now!&lt;/a&gt;&lt;/p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cod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&lt;a href="http://www.mm214.com" onclick="alert('I said don\'t do that!!!');return false;"&gt; Don't click here&lt;/a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onclick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ven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is the event that occurs when the user clicks the link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a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func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akes a single 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argument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ich is a string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ven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vents are triggered by user actions or the browser itself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mon User action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mmon events include: onMouseOver, onMouseOut, onClick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hese 3 events are mostly commonly used with anchor tag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thers include onFocus, onBlu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cument events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Load and onUnLoad are examples of events not triggered by the use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ler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alert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is used to grab the attention of the us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tax: alert(</a:t>
            </a:r>
            <a:r>
              <a:rPr b="0" i="1" lang="en-US" sz="2000" spc="-1" strike="noStrike">
                <a:solidFill>
                  <a:srgbClr val="006699"/>
                </a:solidFill>
                <a:latin typeface="Arial"/>
              </a:rPr>
              <a:t>string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: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You have not entered a valid name.”)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Ex.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lert(“Hello “ + name + “!”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look of the alert box is defined by the browser and platfo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ets the users attention but abusing it can easily be abus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can javascript do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letely front-ended…consider it a browser script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t’s an interpreted language which is why we want to put as much as we can in the head tag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clare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t necessary but a good practi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sign variables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i = 7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name = “Eric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 assign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7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x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x = y + 10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y = y + 4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first = “jon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last = “doe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var name = first + “ “ + las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t Vali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7 = x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ould this equal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this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title&gt;My Page&lt;/title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2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myvalue=5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ult=myvalue+myval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result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is an object oriented langu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ough because it is so ‘loose’ with its typing many don’t think of it as on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bjects are variables with properties and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properties may be other variables or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“.” operator is used to access the methods and properties of an objec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 jared.age = 22;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bject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bjects are predefined functions for math, text variables, browser controllin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s a matter of fact each and every item placed on a webpage is an object that can be changed, read, or written to by javascrip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is is where the real fun starts with javascript: When you start controlling the single objects (form fields, buttons, images, menus, etc. etc.) on the pag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at is where you really start taking your pages beyond the aver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new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bjects are declared using new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var jared = new Object(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perties are not declared with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var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.  You just assign the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- hooter.name = “Hooter Hicks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hooter.age = “22”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e code: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now = new Date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var hour = now.getHours(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f (hour &gt; 5 &amp;&amp; hour &lt;= 11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Mor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if (hour &gt; 11 &amp;&amp; hour &lt;= 17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Afternoon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document.write("&lt;b&gt;Good Evening!&lt;/b&gt;")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//  --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Script Example part 2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&lt;script&gt; is the tag used to indicate that you are writing javascript and not html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are used to make conditional statement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ocument.write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tells javascript to insert html into the pag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The &lt;script&gt; tag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property of &lt;script&gt; is langu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g.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you don’t specify a language the default is javascript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an also specify a version number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&lt;script language =“javascript”&gt;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lways close the &lt;script&gt; tag, or your code will not work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nclose your javascript code within a html comment block &lt;!-- --&gt;, to make the page comaptible with non-javascript browse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do I use javascript for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Browser Det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tecting the browser used by a visitor at your page. Depending on the browser, another page specifically designed for that browser can then be loaded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re are several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operators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used for making comparisons between variabl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 main arithmetic comparitors are: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= equal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 less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 greater tha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= greater than or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= not equal to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n making comparison you can also use logic func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amp;&amp; for and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|| for or (that’s two ‘pipes”; shift backslash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! For no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g: if (age &gt; 18 &amp;&amp; age &lt; 65) {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 = “$10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 else {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ce = “$6”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re logic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f  (customer.age &lt;= 18 &amp;&amp;  movie.rating == “R” &amp;&amp; !(customer.parentPresent())) {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ocument.write(“No admittance”);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Variab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s something that holds a value, a value being a string of characters, a number, a set of things (such as strings or numbers)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2.50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Art Institute"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bird.gif"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h1&gt;This is it. 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Modified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title&gt; JavaScript 1 &lt;/title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var s = "Hello "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s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Date()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document.write("&lt;br&gt;&lt;h1&gt;" + s + "&lt;/h1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This is the rest of the p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Courier New"/>
              </a:rPr>
              <a:t>&lt;/body&gt;  &lt;/html&gt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Recap of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avaScript code in the head section (NOT within a function definition--example of this later in notes).  This gets </a:t>
            </a:r>
            <a:r>
              <a:rPr b="0" i="1" lang="en-US" sz="2800" spc="-1" strike="noStrike">
                <a:solidFill>
                  <a:srgbClr val="006699"/>
                </a:solidFill>
                <a:latin typeface="Arial"/>
              </a:rPr>
              <a:t>executed 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(done, performed) before anything els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document.write(</a:t>
            </a:r>
            <a:r>
              <a:rPr b="0" i="1" lang="en-US" sz="2800" spc="-1" strike="noStrike">
                <a:solidFill>
                  <a:srgbClr val="006699"/>
                </a:solidFill>
                <a:latin typeface="Courier New"/>
              </a:rPr>
              <a:t>something</a:t>
            </a:r>
            <a:r>
              <a:rPr b="0" lang="en-US" sz="2800" spc="-1" strike="noStrike">
                <a:solidFill>
                  <a:srgbClr val="006699"/>
                </a:solidFill>
                <a:latin typeface="Courier New"/>
              </a:rPr>
              <a:t>)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puts the something at the start of the html page. Try other possibilit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Courier New"/>
              </a:rPr>
              <a:t>document.write("&lt;font color=red&gt; hello &lt;/font&gt;");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sing built-in functions, variabl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!--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rawDate = Date(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var mon = rawDate.substr(4,3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"The month is 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ocument.write(mon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//--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r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 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me for in class assignment #1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276360" y="2209680"/>
            <a:ext cx="1447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0600" y="1981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Variable set to what Date() returns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4114440" y="3124080"/>
            <a:ext cx="1600200" cy="7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91320" y="29718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Extract the month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t event handler to set status ba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 &lt;head&gt; &lt;title&gt; JavaScript 1 &lt;/title&gt; 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his is the rest of the pag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a href="http://mm214.com/mm3303materials/"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onMouseOver="status= 'This is where our stuff will be'; return true;"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ass Materials &lt;/a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5409720" y="3580920"/>
            <a:ext cx="228600" cy="129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10080" y="5029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Note single quotes inside double quotes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314840" y="2819520"/>
            <a:ext cx="15228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lets the hyperlink take place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1447920" y="3504960"/>
            <a:ext cx="76176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28800" y="5638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This is an event.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tes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f statement allows you/the code to check a condition and if the condition is true, do something and if the condition is not true, do something else (or do nothing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(condition)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lse { any number of statements}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ookies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oring information on the visitor's computer, then retrieving this information automatically next time the user visits your page. This technique is called "cookies"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if statemen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s used to execute code only is some condition is tr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age &gt;= 18) {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adult = true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lse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sed with if to execute a second statement if the condition is fals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if (sex == “male”)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r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title = “Ms”;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se if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lse if 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d for linking several if statement together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f (phd == true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D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r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if (sex == “female”)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Ms.”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itle = “????”;  /* Not male or female! */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Form verification example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 in two par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verify function written in the head s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form itself, with the call to verify part of the onSubmit event hand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83400" y="380880"/>
            <a:ext cx="82580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head&gt;&lt;title&gt;Form example &lt;/title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script language="JavaScript"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function verify(f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null || f.address.value == null)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if (f.lname.value == "" || f.address.value == "") 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{   alert("Form needs a last name and an address")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Courier New"/>
              </a:rPr>
              <a:t>&lt;/script&gt; &lt;/head&gt;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48560" y="530280"/>
            <a:ext cx="726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body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1&gt; Address Information &lt;/h1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form method=post enctype="text/plain" action="mailto:ks422@fac.aii.edu"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onSubmit="return verify(this);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First Name: &lt;input type="text" name="fname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Last Name: &lt;input type="text" name="lname"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reet Address: &lt;input type="text" name="address" size=30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Town/City: &lt;input type="text" name="city"&gt; 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e: &lt;select name="state" size=1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Y" selected&gt; New York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NJ"&gt; New Jersey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CT"&gt; Connecticu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option value="PA"&gt; Pennsylvania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select&gt; &lt;br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Status: &lt;input type="radio" name="status" value="R"&gt; Returning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radio" name="status" value="N"&gt; New client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hr&gt; Thank you &lt;p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input type="submit" value="Send information"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Times New Roman"/>
              </a:rPr>
              <a:t>&lt;/form&gt; &lt;/body&gt; &lt;/html&gt;</a:t>
            </a:r>
            <a:endParaRPr b="0" lang="en-US" sz="1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Learning to fish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ny on-line sites with examples of JavaScrip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do need to review what you find (you don't want to eat anything you hook….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 an example that displays: "Class is nearly over" when the time is past 9p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Browser Control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pening pages in customized windows, where you specify if the browser's buttons, menu line, status line or whatever should be present.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And my fav…form validation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lidating inputs to fields before submitting a form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n example would be validating the entered email address to see if it has an @ in it, since if not, it's not a valid address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ere to place it…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Or…….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title&gt;My Javascript Page&lt;/title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script type="text/javascript"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ert("Welcome to my world!!!")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script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&lt;/html&gt;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Elements of JavaScrip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ogramming element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bles, operators, expressions, statements, definition of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nection to Web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ilt-in functions (e.g., Date()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ocument Object Model = names of ‘things’, properties, methods (e.g., document.writ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vents (e.g., onSubmit, onMouseOver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9T13:50:02Z</dcterms:created>
  <dc:creator>Kristian Secor</dc:creator>
  <dc:description/>
  <dc:language>en-US</dc:language>
  <cp:lastModifiedBy>Kristian Secor</cp:lastModifiedBy>
  <dcterms:modified xsi:type="dcterms:W3CDTF">2006-07-10T19:13:36Z</dcterms:modified>
  <cp:revision>16</cp:revision>
  <dc:subject/>
  <dc:title>MM3303 Week 1</dc:title>
</cp:coreProperties>
</file>