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3967-66AC-4205-9413-89AFF8231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DF91-7BA0-4B75-A732-0C98B018A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A50A-0096-4E80-911B-915949A7B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F19-CFE4-4B5A-B34E-48AC3B1B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BE8F-97C7-4DE9-8B8F-06D5A3FB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2FB-7EC1-49CD-B2F4-29BA89A0A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D0E8-E89E-4D45-8540-DAE5BE5D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740-6939-4163-9F50-196420B9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D61-1A62-419E-83A1-99F25F17F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BE2-59BD-4ABC-9669-FF19D3A7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1577-F2D8-439A-BF7E-79650CCC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BED5-EF95-4820-86E5-92FD19E3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4AA-EFDD-4AD3-ACC5-F4EFF35F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549A-FB1A-4AC5-8B7E-E6EAB6DE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5E1-B0F7-40CE-97EF-148431AC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8321-DB08-4080-89F1-69C11DAAA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m214.com/mm3323materials/mm3323week10/4pattern/ereg.php" TargetMode="External"/><Relationship Id="rId2" Type="http://schemas.openxmlformats.org/officeDocument/2006/relationships/hyperlink" Target="http://mm214.com/mm3323materials/mm3323week10/4pattern/ereg.php" TargetMode="External"/><Relationship Id="rId3" Type="http://schemas.openxmlformats.org/officeDocument/2006/relationships/hyperlink" Target="http://mm214.com/mm3323materials/mm3323week10/4pattern/ereg.php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Script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678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JavaScript regular expressions are very similar to those used in Unix, Perl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define a reg. ex. and assign it to a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ar validSeq = /^abc$/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n test any string against 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ar myString = “abd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f (!validSeq.test(myString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ert( “Invalid!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specify choic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ar validSeq2 = /(George|Barbara|Holly) Bush/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sort of common form-item does this mat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var regExp = /([A-Z]\.)+[A-Z][a-z]+/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84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ull Scrip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n example script has ereg, eregi, ereg_replace, and eregi_re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Ereg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h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3840" y="66960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grouping charac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2898720"/>
          <a:ext cx="11049120" cy="10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98720"/>
                    <a:ext cx="11049120" cy="10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0492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arentheses to specify a group of characters in a regular express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ve uses parentheses with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to indicate “Dav” can be followed by “e” or “id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593280"/>
            <a:ext cx="8029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grouping charac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18288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add in  “^” and “$” characters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2930400"/>
          <a:ext cx="10134720" cy="9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30400"/>
                    <a:ext cx="101347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curly brackets to specify a range of charac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urly brackets to look for a repeating of one or more charac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{3} matches 3 “L”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{3,} matches3 or more “L”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{2,4} matchs 2 to 4 “L”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04920" y="4343400"/>
          <a:ext cx="9753480" cy="210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343400"/>
                    <a:ext cx="975348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square brackets for character class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1752480"/>
            <a:ext cx="8610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quare brackets to match one of character found insid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3033720"/>
          <a:ext cx="10515600" cy="123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33720"/>
                    <a:ext cx="1051560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 square brackets with rang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676520"/>
            <a:ext cx="8915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mon to specify a range of mat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e [0-9], [a-z] or [A-Z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use multiple characters at onc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2895480"/>
          <a:ext cx="10134720" cy="120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95480"/>
                    <a:ext cx="10134720" cy="12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28600" y="4800600"/>
          <a:ext cx="8915400" cy="1333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800600"/>
                    <a:ext cx="89154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60480"/>
            <a:ext cx="91440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caret “^” and squa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acke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752480"/>
            <a:ext cx="8915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caret “^” is first character within square brackets it means “not”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Within a character class, as i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[^ . . . 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“^” me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Earlier saw how it can indicate that the character that follows the caret symbo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match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920" y="2895480"/>
          <a:ext cx="9067680" cy="106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906768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Pre-defined charact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8458200" cy="34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8458200" cy="34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Pre-defined charact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1905120"/>
          <a:ext cx="952488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952488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al Pre-defined character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1814400"/>
          <a:ext cx="8305920" cy="37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14400"/>
                    <a:ext cx="830592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JavaScript: Regular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ere’s how to perform a replacement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str = "George Bush is a master of wit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// print more insightful com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newstr = str.replace(/master of /, "t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ocument.write(newstr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global replace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str = “Burgers come from Burgerking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newstr = str.replace(/Burger/g, “Dork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d one with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back referenc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str = “snowboarders skiers yetis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// put in order of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var newstr = str.replace(/^([^ ]+) +([^ ]+)/, "$2 $1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lnSpc>
                <a:spcPct val="90000"/>
              </a:lnSpc>
              <a:spcBef>
                <a:spcPts val="3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// Note: "^" has 2 distinct meanings in this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Regular Expressions that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Regular expressions is best done increment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look at a process to build  a regular expression to validate a date input fiel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m/dd/yyy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at (for example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06/01/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6/1/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60480"/>
            <a:ext cx="8915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n Example Regular 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4114800"/>
          <a:ext cx="8202600" cy="26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14800"/>
                    <a:ext cx="820260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286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etermine the precise field rul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valid input and invalid  inp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ight decide to allow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/06/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t no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/6/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c/6/200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hrough several examples as follow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n Example Regular 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et the form and form-handling scripts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 the input form and a “bare bones”receiving scri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 receives input of 1 or more charac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if ( ereg( ‘.+’, $date ) ) {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 "Valid date= $date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 "Invalid date= $date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n Example Regular 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art with the most specific term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know must have 2 slashes between 2 character month, 2 character day and 4 charact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change receiving script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 ereg( ‘../../....’, $date )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 "Valid date= $date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 "Invalid date= $date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2/21/12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j/12/ff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valid, bu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1/1/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n Example Regular 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52388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chor the parts you can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6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^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$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quantifiers where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6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, can add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[:digit:]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 class to require numbers instead of any charac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6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change receiving script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$two=‘[[:digit:]]{2}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9040" indent="-196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ereg("^$two/$two/$two$two$", $date ) 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rint "Valid date= $date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print "Invalid date= $date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/16/200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9/09/200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1/12/12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9/99/99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valid 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an Example Regular Ex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et more specific if possible 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6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ight note that three more rules can be add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6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digit of the month can be only 0, or 1. For example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5/06/200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learly illeg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6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irst digit of a day can be only 0, 1, 2, or 3. For examp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05/55/20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learly illeg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6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llow years from this century allowed. Don’t care about date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5/05/192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5/05/300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$two=‘[[:digit:]]{2}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$month=‘[0-1][[:digit:]]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$day=‘[0-3][[:digit:]]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8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sz="1600" spc="-1" strike="noStrike">
                <a:solidFill>
                  <a:srgbClr val="000000"/>
                </a:solidFill>
                <a:latin typeface="Courier New"/>
              </a:rPr>
              <a:t>$year="2[[:digit:]]$two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 ereg("^($month)/($day)/($year)$", $date ) 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9480" y="4946760"/>
            <a:ext cx="2910240" cy="959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6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ow input li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9/99/20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6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5/05/4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illeg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5105520"/>
            <a:ext cx="990720" cy="838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960" y="669600"/>
            <a:ext cx="83818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Patterns With split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28600" y="3200400"/>
          <a:ext cx="8915400" cy="14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00400"/>
                    <a:ext cx="89154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522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lit() to break a string into different pieces based on the presence of a match patter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960" y="669600"/>
            <a:ext cx="83818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Patterns With split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Consider another example;</a:t>
            </a: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8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line = ‘Baseball, hot dogs, apple pie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8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item =  split( ‘,’, $lin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8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int ("0=$item[0] 1=$item[1] 2=$item[2]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6000"/>
              </a:lnSpc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lines will have the following outpu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0=Baseball 1= hot dogs 2= apple 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8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960" y="669600"/>
            <a:ext cx="83818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ing Patterns With split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When you know how many patterns you are interested can use list() along with split():</a:t>
            </a: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line = ‘AA1234:Hammer:122:12’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list($partno, $part, $num, $cost) = split(‘:’, $line, 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8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ourier New"/>
              </a:rPr>
              <a:t>print "partno=$partno part=$part num=$num cost=$cost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ove code would output the following: </a:t>
            </a:r>
            <a:r>
              <a:rPr b="0" sz="2400" spc="-1" strike="noStrike">
                <a:solidFill>
                  <a:srgbClr val="000000"/>
                </a:solidFill>
                <a:latin typeface="Courier New"/>
              </a:rPr>
              <a:t>partno=AA1234 part=Hammer num=122 cost=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split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As an example of split() consider the following:</a:t>
            </a:r>
            <a:r>
              <a:rPr b="0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8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line = ‘Please , pass     thepepper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result =  split( ‘[[:space:]]+’, $lin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esults in the following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result[0] = ‘Please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result[1] = ‘,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result[2] = ‘pass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result[3] = ‘thepepper’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84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w for 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P supports three pattern matching functions: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eg(), split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eg_replace()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expressions are used to define very specific match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ull Script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n example script that updates the date checker just studi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split() to further refine date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he same input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input type="text" size="10" maxlength="10" name="dat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regreplace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6000"/>
              </a:lnSpc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eg_replace(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replacing characters in a string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used to replace one string pattern for another in a string variable.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6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start = ‘AC1001:Hammer:15:150’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6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end = ereg_replace( ‘Hammer’, ‘Drill’, $star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6000"/>
              </a:lnSpc>
              <a:spcBef>
                <a:spcPts val="40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nt "end=$end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bove script segment would output 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d=AC1001:Drill:15: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P supports a set of operators and functions that are useful for matching and manipulating patterns in str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2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eg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 looks for and match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2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plit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uses a pattern to split  string values into as many pieces as there are match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r expressions greatly enhance its pattern matching capabilit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ve arrays use string value indices rather than numerical values. They are useful for cross-referencing an index with a valu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6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us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foreac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 to concisely examine the various items within an associative arr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onditional statements to test for certain conditions and, based on the results of the test, to run specific script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s expand the types of programming problems that you can solve and allow you to solve some programming problems much more concis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6000"/>
              </a:lnSpc>
              <a:spcBef>
                <a:spcPts val="799"/>
              </a:spcBef>
              <a:spcAft>
                <a:spcPts val="300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ogical AND (&amp;&amp;), OR (||) and NOT (!) operators to carry out compound t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s are used to store and access data in computer memory. You can associate a value with a variable, change that value, print it out, and perform many different operations o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P supports both numeric and string variables. String variables use different methods for value manipulation (for example, concatenation) than numeric variables 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reg()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ereg() to check if a string contains a match patter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09480" y="2971800"/>
          <a:ext cx="8763120" cy="16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971800"/>
                    <a:ext cx="8763120" cy="16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8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Consider the following</a:t>
            </a:r>
            <a:r>
              <a:rPr b="0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name = 'Jake Jackson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$pattern = 'ke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if (ereg($pattern, $name)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int 'Match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int 'No match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88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Times New Roman"/>
              </a:rPr>
              <a:t>This co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tch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nce the string “ke” is fou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88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$patte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 “aa” the above code segment would output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No matc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60" y="593280"/>
            <a:ext cx="80294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egular express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pattern matching characters with specific pattern matching mea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a caret symbol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returns a match when the pattern that follows starts the target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$part = 'AA100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$pattern = '^AA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if (ereg($pattern, $part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print 'Match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print 'No match'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88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31200" y="4343400"/>
            <a:ext cx="1945440" cy="6426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heck if $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rts with “A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410080" y="44956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7320" y="5430960"/>
            <a:ext cx="1963800" cy="1067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ould be outp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$par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B100”, “100A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, or “Appl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5867280"/>
            <a:ext cx="914400" cy="76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60" y="6048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ed Pattern Matching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280" y="1785960"/>
          <a:ext cx="8763120" cy="377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85960"/>
                    <a:ext cx="8763120" cy="37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ed Pattern Matching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795320"/>
          <a:ext cx="838188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95320"/>
                    <a:ext cx="83818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760" y="-15840"/>
            <a:ext cx="802944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ed Pattern Matching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8600" y="1792440"/>
          <a:ext cx="8915400" cy="407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92440"/>
                    <a:ext cx="8915400" cy="40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21:20:52Z</dcterms:created>
  <dc:creator>Academic Technology</dc:creator>
  <dc:description/>
  <dc:language>en-US</dc:language>
  <cp:lastModifiedBy>Kristian Secor</cp:lastModifiedBy>
  <dcterms:modified xsi:type="dcterms:W3CDTF">2007-03-09T01:40:26Z</dcterms:modified>
  <cp:revision>52</cp:revision>
  <dc:subject/>
  <dc:title>Final Project Ideas</dc:title>
</cp:coreProperties>
</file>