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82AD-0C51-4200-976B-439A4F60C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7B6F-7AA0-49CE-9663-33066EC1C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3555-1428-49D9-8529-55E20E657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7AA-69E8-44F5-84DE-981E5C7A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653-FEFB-43DE-BAE6-DB616505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E37-1FA7-4CF9-861B-3A5E333E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E3E-B380-4A8B-AE39-95B2B238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3CD-D63C-4CE2-9D98-8CA1B98A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AA4-2994-48BD-A849-2D33B5D4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563-465B-4133-A875-D0F5FABD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DCE-3DCB-4724-BF2E-FDC1EB71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585-7DDE-41F2-9D92-F82B187C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95D-07BF-49B3-BBE6-AF638C98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555-6F75-4044-BCD7-B9A605D8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179-A339-4FD4-AA48-1A1744EB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15A9-4343-4B72-8983-D05BF28FA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m214.com/mm3323materials/mm3323week10/4pattern/ereg.php" TargetMode="External"/><Relationship Id="rId2" Type="http://schemas.openxmlformats.org/officeDocument/2006/relationships/hyperlink" Target="http://mm214.com/mm3323materials/mm3323week10/4pattern/ereg.php" TargetMode="External"/><Relationship Id="rId3" Type="http://schemas.openxmlformats.org/officeDocument/2006/relationships/hyperlink" Target="http://mm214.com/mm3323materials/mm3323week10/4pattern/ereg.php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Script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678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vaScript regular expressions are very similar to those used in Unix, Per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define a reg. ex. and assign it to a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var validSeq = /^abc$/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 test any string against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var myString = “abd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f (!validSeq.test(myString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ert( “Invalid!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specify cho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var validSeq2 = /(George|Barbara|Holly) Bush/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sort of common form-item does this mat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var regExp = /([A-Z]\.)+[A-Z][a-z]+/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ull Scrip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n example script has ereg, eregi, ereg_replace, and eregi_re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Ereg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3840" y="66960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grouping charac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2898720"/>
          <a:ext cx="11049120" cy="10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98720"/>
                    <a:ext cx="110491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0492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arentheses to specify a group of characters in a regular express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ve uses parentheses with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o indicate “Dav” can be followed by “e” or “id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593280"/>
            <a:ext cx="8029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grouping charac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add in  “^” and “$” character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2930400"/>
          <a:ext cx="10134720" cy="9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30400"/>
                    <a:ext cx="101347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urly brackets to specify a range of charac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urly brackets to look for a repeating of one or more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{3} matches 3 “L”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{3,} matches3 or more “L”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{2,4} matchs 2 to 4 “L”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4343400"/>
          <a:ext cx="9753480" cy="210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343400"/>
                    <a:ext cx="975348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square brackets for character clas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752480"/>
            <a:ext cx="8610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quare brackets to match one of character found insid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3033720"/>
          <a:ext cx="10515600" cy="123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33720"/>
                    <a:ext cx="1051560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square brackets with ran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76520"/>
            <a:ext cx="8915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mon to specify a range of ma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e [0-9], [a-z] or [A-Z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use multiple characters at onc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2895480"/>
          <a:ext cx="10134720" cy="12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95480"/>
                    <a:ext cx="1013472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28600" y="4800600"/>
          <a:ext cx="8915400" cy="1333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800600"/>
                    <a:ext cx="8915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480"/>
            <a:ext cx="9144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aret “^” and squ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cke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752480"/>
            <a:ext cx="8915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aret “^” is first character within square brackets it means “not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ithin a character class, as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^ . . . 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“^” me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Earlier saw how it can indicate that the character that follows the caret symbo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match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2895480"/>
          <a:ext cx="9067680" cy="106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906768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60" y="-1584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Pre-defined charact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8458200" cy="34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458200" cy="34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Pre-defined charact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905120"/>
          <a:ext cx="952488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952488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60" y="-1584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Pre-defined charact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1814400"/>
          <a:ext cx="8305920" cy="37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14400"/>
                    <a:ext cx="830592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Script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ere’s how to perform a replace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ar str = "George Bush is a master of wit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// print more insightful com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ar newstr = str.replace(/master of /, "t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ocument.write(newstr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lobal replac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ar str = “Burgers come from Burgerking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ar newstr = str.replace(/Burger/g, “Dork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one wit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back referenc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ar str = “snowboarders skiers yetis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// put in order of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ar newstr = str.replace(/^([^ ]+) +([^ ]+)/, "$2 $1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// Note: "^" has 2 distinct meanings in this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60" y="-1584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Regular Expressions that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Regular expressions is best done increme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look at a process to build  a regular expression to validate a date input fiel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m/dd/yyy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at (for examp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6/01/20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6/1/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60480"/>
            <a:ext cx="891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n Example Regular Ex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4114800"/>
          <a:ext cx="8202600" cy="26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820260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286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ermine the precise field rul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valid input and invalid  inp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ight decide to allo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/06/20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t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/6/20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c/6/20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hrough several examples as follow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n Example Regular Ex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t the form and form-handling scripts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the input form and a “bare bones”receiving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 receives input of 1 or more charac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 ( ereg( ‘.+’, $date ) ) {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int "Valid date= $date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int "Invalid date= $date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n Example Regular Ex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 with the most specific term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know must have 2 slashes between 2 character month, 2 character day and 4 charact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change receiving script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ereg( ‘../../....’, $date )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int "Valid date= $date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int "Invalid date= $date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/21/12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j/12/ff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valid, bu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/1/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60" y="-1584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n Example Regular Ex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chor the parts you ca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6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^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quantifiers where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6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can add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[:digit:]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class to require numbers instead of any charac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6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hange receiving scrip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$two=‘[[:digit:]]{2}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ereg("^$two/$two/$two$two$", $date ) 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rint "Valid date= $date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rint "Invalid date= $date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/16/200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9/09/20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/12/12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9/99/99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valid 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n Example Regular Ex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 more specific if possible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6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ight note that three more rules can be add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6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digit of the month can be only 0, or 1. For example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5/06/20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learly illeg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6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digit of a day can be only 0, 1, 2, or 3. For examp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05/55/20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learly illeg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6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llow years from this century allowed. Don’t care about date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5/05/192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5/05/300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$two=‘[[:digit:]]{2}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$month=‘[0-1][[:digit:]]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$day=‘[0-3][[:digit:]]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$year="2[[:digit:]]$two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ereg("^($month)/($day)/($year)$", $date )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09480" y="4946760"/>
            <a:ext cx="2910240" cy="95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6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w input li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6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9/99/20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6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5/05/4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illeg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5105520"/>
            <a:ext cx="99072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960" y="669600"/>
            <a:ext cx="83818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Patterns With split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3200400"/>
          <a:ext cx="891540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89154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522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lit() to break a string into different pieces based on the presence of a match patter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669600"/>
            <a:ext cx="83818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Patterns With split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Consider another example;</a:t>
            </a: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8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line = ‘Baseball, hot dogs, apple pie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8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item =  split( ‘,’, $lin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8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int ("0=$item[0] 1=$item[1] 2=$item[2]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6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lines will have the following outpu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0=Baseball 1= hot dogs 2= apple 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960" y="669600"/>
            <a:ext cx="83818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Patterns With split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When you know how many patterns you are interested can use list() along with split():</a:t>
            </a: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line = ‘AA1234:Hammer:122:12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list($partno, $part, $num, $cost) = split(‘:’, $line, 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int "partno=$partno part=$part num=$num cost=$cost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ove code would output the following: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partno=AA1234 part=Hammer num=122 cost=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split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s an example of split() consider the following:</a:t>
            </a: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line = ‘Please , pass     thepepper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result =  split( ‘[[:space:]]+’, $lin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esults in the following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result[0] = ‘Please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result[1] = ‘,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result[2] = ‘pass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result[3] = ‘thepepper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84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for 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P supports three pattern matching functions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eg(), spli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eg_replace(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 expressions are used to define very specific match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ull Scrip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n example script that updates the date checker just stu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plit() to further refine date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he same input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input type="text" size="10" maxlength="10" name="dat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regreplace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6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eg_replace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replacing characters in a string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used to replace one string pattern for another in a string variable.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6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start = ‘AC1001:Hammer:15:150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6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end = ereg_replace( ‘Hammer’, ‘Drill’, $star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6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 "end=$end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ove script segment would output 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=AC1001:Drill:15: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P supports a set of operators and functions that are useful for matching and manipulating patterns in str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2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eg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 looks for and match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2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l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uses a pattern to split  string values into as many pieces as there are match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 expressions greatly enhance its pattern matching capabilit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 arrays use string value indices rather than numerical values. They are useful for cross-referencing an index with a valu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ea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 to concisely examine the various items within an associative arr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nditional statements to test for certain conditions and, based on the results of the test, to run specific script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s expand the types of programming problems that you can solve and allow you to solve some programming problems much more concis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ogical AND (&amp;&amp;), OR (||) and NOT (!) operators to carry out compound t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are used to store and access data in computer memory. You can associate a value with a variable, change that value, print it out, and perform many different operations o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P supports both numeric and string variables. String variables use different methods for value manipulation (for example, concatenation) than numeric variables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reg()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reg() to check if a string contains a match patter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2971800"/>
          <a:ext cx="876312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971800"/>
                    <a:ext cx="876312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8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Consider the following</a:t>
            </a: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name = 'Jake Jackson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pattern = 'ke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if (ereg($pattern, $name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int 'Match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int 'No match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his co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tch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nce the string “ke” is fou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$patte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 “aa” the above code segment would output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o matc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egular express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pattern matching characters with specific pattern matching mea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a caret symbol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returns a match when the pattern that follows starts the target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$part = 'AA100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$pattern = '^AA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f (ereg($pattern, $part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print 'Match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print 'No match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31200" y="4343400"/>
            <a:ext cx="194544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eck if $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rts with “A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410080" y="44956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7320" y="5430960"/>
            <a:ext cx="1963800" cy="1067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ould be outp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$par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B100”, “100A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 or “Appl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67280"/>
            <a:ext cx="91440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ed Pattern Matching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1785960"/>
          <a:ext cx="8763120" cy="37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85960"/>
                    <a:ext cx="876312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60" y="-1584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ed Pattern Matching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795320"/>
          <a:ext cx="8381880" cy="39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95320"/>
                    <a:ext cx="83818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60" y="-1584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ed Pattern Matching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792440"/>
          <a:ext cx="8915400" cy="407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92440"/>
                    <a:ext cx="8915400" cy="40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1:20:52Z</dcterms:created>
  <dc:creator>Academic Technology</dc:creator>
  <dc:description/>
  <dc:language>en-US</dc:language>
  <cp:lastModifiedBy>Kristian Secor</cp:lastModifiedBy>
  <dcterms:modified xsi:type="dcterms:W3CDTF">2007-03-09T01:40:26Z</dcterms:modified>
  <cp:revision>52</cp:revision>
  <dc:subject/>
  <dc:title>Final Project Ideas</dc:title>
</cp:coreProperties>
</file>